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8120" y="63360"/>
            <a:ext cx="57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0" y="6400800"/>
            <a:ext cx="4419360" cy="457200"/>
            <a:chOff x="4572000" y="6400800"/>
            <a:chExt cx="4419360" cy="457200"/>
          </a:xfrm>
        </p:grpSpPr>
        <p:sp>
          <p:nvSpPr>
            <p:cNvPr id="2" name=""/>
            <p:cNvSpPr/>
            <p:nvPr/>
          </p:nvSpPr>
          <p:spPr>
            <a:xfrm>
              <a:off x="4572000" y="6400800"/>
              <a:ext cx="4419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0" y="6503760"/>
              <a:ext cx="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5994360"/>
            <a:ext cx="1143000" cy="865800"/>
            <a:chOff x="0" y="5994360"/>
            <a:chExt cx="1143000" cy="8658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1280" y="5994360"/>
              <a:ext cx="857160" cy="6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6659640"/>
              <a:ext cx="114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9933"/>
                  </a:solidFill>
                  <a:latin typeface="Times New Roman"/>
                </a:rPr>
                <a:t>für Mensch und Umwel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urora BdCn B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808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76320" y="76320"/>
            <a:ext cx="1143000" cy="865800"/>
            <a:chOff x="76320" y="76320"/>
            <a:chExt cx="1143000" cy="8658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147600" y="76320"/>
              <a:ext cx="857160" cy="6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6320" y="741600"/>
              <a:ext cx="114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9933"/>
                  </a:solidFill>
                  <a:latin typeface="Times New Roman"/>
                </a:rPr>
                <a:t>für Mensch und Umwel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urora BdCn B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90720"/>
            <a:ext cx="8153280" cy="5257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2392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Entwicklung eines Web-Services für die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DIOXIN-Datenbank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des Bundes und der Länder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Umweltbundesamt / G. Knetsch / M. Rappol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Bayerisches Staatsministerium für Landesentwicklung und Umweltfragen/ E. Wei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66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  <a:ea typeface="Arial"/>
              </a:rPr>
              <a:t>Workshop Umweltdatenbanken 19./20.05.2003, Ber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052640"/>
            <a:ext cx="8153280" cy="466560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286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Struktur der Datenbank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295280"/>
            <a:ext cx="731520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atenrecherche: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Standardrecherchen getrennt für den Umwelt- und Humanbere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Recherchekriterien nach Kategorien Raum, Zeit und Fachbezug (z.B. Bundesland, Kompartiment, Einzelstoff, Jahr der Untersuchu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Kompartimentspezifische Recherchekriterien z.B. für Boden nach Flächennutzung, Horiz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urora BdCn BT"/>
              </a:rPr>
              <a:t>Auswertungsbeispiel: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urora BdCn BT"/>
              </a:rPr>
              <a:t>PCDD/F Gehalte (I‑TEQ ohne NWG) organischer Auslagen ohne besondere Belastungssituation in Abhängigkeit vom Nutzungstyp</a:t>
            </a: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02440" y="2016720"/>
            <a:ext cx="7717320" cy="3772800"/>
            <a:chOff x="802440" y="2016720"/>
            <a:chExt cx="7717320" cy="3772800"/>
          </a:xfrm>
        </p:grpSpPr>
        <p:sp>
          <p:nvSpPr>
            <p:cNvPr id="130" name=""/>
            <p:cNvSpPr/>
            <p:nvPr/>
          </p:nvSpPr>
          <p:spPr>
            <a:xfrm>
              <a:off x="2366640" y="2016720"/>
              <a:ext cx="60339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2640" y="2016720"/>
              <a:ext cx="720" cy="3438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79720" y="2016720"/>
              <a:ext cx="720" cy="3438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87880" y="2016720"/>
              <a:ext cx="720" cy="3438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93880" y="2016720"/>
              <a:ext cx="720" cy="3438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00960" y="2016720"/>
              <a:ext cx="720" cy="3438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66640" y="2016720"/>
              <a:ext cx="6033960" cy="3438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87240" y="4853520"/>
              <a:ext cx="603000" cy="343440"/>
            </a:xfrm>
            <a:prstGeom prst="rect">
              <a:avLst/>
            </a:prstGeom>
            <a:solidFill>
              <a:srgbClr val="33cccc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12800" y="3993120"/>
              <a:ext cx="965520" cy="344160"/>
            </a:xfrm>
            <a:prstGeom prst="rect">
              <a:avLst/>
            </a:prstGeom>
            <a:solidFill>
              <a:srgbClr val="33cccc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26400" y="3134160"/>
              <a:ext cx="965520" cy="342720"/>
            </a:xfrm>
            <a:prstGeom prst="rect">
              <a:avLst/>
            </a:prstGeom>
            <a:solidFill>
              <a:srgbClr val="33cccc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48080" y="2274480"/>
              <a:ext cx="1206000" cy="343440"/>
            </a:xfrm>
            <a:prstGeom prst="rect">
              <a:avLst/>
            </a:prstGeom>
            <a:solidFill>
              <a:srgbClr val="33cccc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0240" y="4853520"/>
              <a:ext cx="2111760" cy="343440"/>
            </a:xfrm>
            <a:prstGeom prst="rect">
              <a:avLst/>
            </a:prstGeom>
            <a:solidFill>
              <a:srgbClr val="33cc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78320" y="3993120"/>
              <a:ext cx="1991520" cy="344160"/>
            </a:xfrm>
            <a:prstGeom prst="rect">
              <a:avLst/>
            </a:prstGeom>
            <a:solidFill>
              <a:srgbClr val="33cc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92280" y="3134160"/>
              <a:ext cx="1207080" cy="342720"/>
            </a:xfrm>
            <a:prstGeom prst="rect">
              <a:avLst/>
            </a:prstGeom>
            <a:solidFill>
              <a:srgbClr val="33cc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54080" y="2274480"/>
              <a:ext cx="1206720" cy="343440"/>
            </a:xfrm>
            <a:prstGeom prst="rect">
              <a:avLst/>
            </a:prstGeom>
            <a:solidFill>
              <a:srgbClr val="33cc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7240" y="5025600"/>
              <a:ext cx="720" cy="72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7240" y="5001120"/>
              <a:ext cx="720" cy="4824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26400" y="4164840"/>
              <a:ext cx="720" cy="36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6400" y="4140720"/>
              <a:ext cx="720" cy="4824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26400" y="3304440"/>
              <a:ext cx="720" cy="36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6400" y="3279960"/>
              <a:ext cx="720" cy="4824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426040" y="2445480"/>
              <a:ext cx="121320" cy="72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26400" y="2420280"/>
              <a:ext cx="720" cy="4896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02360" y="5025600"/>
              <a:ext cx="2655000" cy="72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57720" y="5001120"/>
              <a:ext cx="720" cy="4824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3800" y="4164840"/>
              <a:ext cx="181440" cy="36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5240" y="4140720"/>
              <a:ext cx="720" cy="4824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99360" y="3304440"/>
              <a:ext cx="120240" cy="36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9960" y="3279960"/>
              <a:ext cx="720" cy="4824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61160" y="2445480"/>
              <a:ext cx="1146240" cy="72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07400" y="2420280"/>
              <a:ext cx="720" cy="48960"/>
            </a:xfrm>
            <a:prstGeom prst="line">
              <a:avLst/>
            </a:prstGeom>
            <a:ln w="2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66640" y="5454720"/>
              <a:ext cx="6033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366640" y="5454720"/>
              <a:ext cx="72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572640" y="5454720"/>
              <a:ext cx="72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779720" y="5454720"/>
              <a:ext cx="72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987880" y="5454720"/>
              <a:ext cx="72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193880" y="5454720"/>
              <a:ext cx="72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400960" y="5454720"/>
              <a:ext cx="72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6640" y="2016720"/>
              <a:ext cx="720" cy="343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21640" y="5454720"/>
              <a:ext cx="44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1640" y="4596120"/>
              <a:ext cx="446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21640" y="3735360"/>
              <a:ext cx="44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21640" y="2875680"/>
              <a:ext cx="44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21640" y="2016720"/>
              <a:ext cx="44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69280" y="4083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57560" y="32144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84680" y="4951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47280" y="4090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02440" y="3228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02560" y="4951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37840" y="5536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10720" y="5536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19240" y="5536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24160" y="5536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33760" y="5536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08800" y="5536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6680" y="4951080"/>
              <a:ext cx="985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"Wald und Gehölze"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2440" y="4092120"/>
              <a:ext cx="1040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aub- und Mischwa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31440" y="3231720"/>
              <a:ext cx="51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schwa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49440" y="2369520"/>
              <a:ext cx="50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adelwa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40920" y="5667480"/>
              <a:ext cx="63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g I-TEQ / 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720" y="56415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43080" y="5667480"/>
              <a:ext cx="13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09920" y="2363400"/>
              <a:ext cx="24012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1680" y="2386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6880" y="2363400"/>
              <a:ext cx="24012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88280" y="2386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urora BdCn BT"/>
              </a:rPr>
              <a:t>Auswertungsbeispiel: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urora BdCn BT"/>
              </a:rPr>
              <a:t>PCDD/PCDF-Gehalte in Textilien aus Baumwolle</a:t>
            </a: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33120" y="1341360"/>
            <a:ext cx="7252560" cy="4490640"/>
            <a:chOff x="933120" y="1341360"/>
            <a:chExt cx="7252560" cy="4490640"/>
          </a:xfrm>
        </p:grpSpPr>
        <p:sp>
          <p:nvSpPr>
            <p:cNvPr id="199" name=""/>
            <p:cNvSpPr/>
            <p:nvPr/>
          </p:nvSpPr>
          <p:spPr>
            <a:xfrm>
              <a:off x="1303920" y="1403280"/>
              <a:ext cx="6881040" cy="40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03920" y="4974120"/>
              <a:ext cx="6881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03920" y="4529160"/>
              <a:ext cx="6881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03920" y="4081680"/>
              <a:ext cx="6881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03920" y="3635280"/>
              <a:ext cx="6881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03920" y="3189240"/>
              <a:ext cx="6881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03920" y="2742840"/>
              <a:ext cx="6881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3920" y="2295360"/>
              <a:ext cx="6881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03920" y="1850400"/>
              <a:ext cx="6881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03920" y="1403280"/>
              <a:ext cx="6881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03920" y="1403280"/>
              <a:ext cx="6881040" cy="4018320"/>
            </a:xfrm>
            <a:prstGeom prst="rect">
              <a:avLst/>
            </a:prstGeom>
            <a:noFill/>
            <a:ln w="7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83080" y="1760400"/>
              <a:ext cx="416520" cy="3661200"/>
            </a:xfrm>
            <a:prstGeom prst="rect">
              <a:avLst/>
            </a:prstGeom>
            <a:solidFill>
              <a:srgbClr val="0000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59360" y="5358960"/>
              <a:ext cx="417240" cy="62640"/>
            </a:xfrm>
            <a:prstGeom prst="rect">
              <a:avLst/>
            </a:prstGeom>
            <a:solidFill>
              <a:srgbClr val="0000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6360" y="3233160"/>
              <a:ext cx="416520" cy="2188080"/>
            </a:xfrm>
            <a:prstGeom prst="rect">
              <a:avLst/>
            </a:prstGeom>
            <a:solidFill>
              <a:srgbClr val="0000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11560" y="5328000"/>
              <a:ext cx="416520" cy="93600"/>
            </a:xfrm>
            <a:prstGeom prst="rect">
              <a:avLst/>
            </a:prstGeom>
            <a:solidFill>
              <a:srgbClr val="0000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87480" y="5260680"/>
              <a:ext cx="417240" cy="160560"/>
            </a:xfrm>
            <a:prstGeom prst="rect">
              <a:avLst/>
            </a:prstGeom>
            <a:solidFill>
              <a:srgbClr val="0000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03920" y="1403280"/>
              <a:ext cx="720" cy="401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72960" y="5421600"/>
              <a:ext cx="306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72960" y="4974120"/>
              <a:ext cx="306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72960" y="4529160"/>
              <a:ext cx="306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72960" y="4081680"/>
              <a:ext cx="306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2960" y="3635280"/>
              <a:ext cx="306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2960" y="3189240"/>
              <a:ext cx="306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2960" y="2742840"/>
              <a:ext cx="306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72960" y="2295360"/>
              <a:ext cx="306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72960" y="1850400"/>
              <a:ext cx="306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72960" y="1403280"/>
              <a:ext cx="306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03920" y="5421600"/>
              <a:ext cx="68810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303920" y="5421600"/>
              <a:ext cx="7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680920" y="5421600"/>
              <a:ext cx="7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056840" y="5421600"/>
              <a:ext cx="7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432400" y="5421600"/>
              <a:ext cx="7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809040" y="5421600"/>
              <a:ext cx="7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8184960" y="5421600"/>
              <a:ext cx="7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68560" y="5359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11320" y="49129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11320" y="44672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11320" y="40190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11320" y="357336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11320" y="31276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11320" y="26809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11320" y="22352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11320" y="17888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11320" y="134136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67000" y="5540040"/>
              <a:ext cx="79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ff, Baumwolle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66960" y="5709960"/>
              <a:ext cx="19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la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17880" y="5540040"/>
              <a:ext cx="53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nterhemd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67040" y="5709960"/>
              <a:ext cx="759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umwolle, gra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92720" y="5540040"/>
              <a:ext cx="53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nterhemd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51600" y="5709960"/>
              <a:ext cx="74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umwolle, bla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31040" y="5540040"/>
              <a:ext cx="89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Shirt, Baumwolle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77800" y="570996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eiß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05520" y="5540040"/>
              <a:ext cx="89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Shirt, Baumwolle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63080" y="570996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rü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734760" y="2912040"/>
              <a:ext cx="51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pg I-TEQ/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33520" y="990720"/>
            <a:ext cx="8153280" cy="495288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2286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Anforderung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2421000"/>
            <a:ext cx="73152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ie Recherchefunktionalitäten genügen bisher nur den grundsätzlichen Anforderungen an das Explorieren der Datenbestände der Dioxin-Datenbank und sollen mit der Weiterentwicklung zu einem Webservice ausgebaut werden.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5411400">
            <a:off x="4178160" y="1518840"/>
            <a:ext cx="60948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00"/>
              </a:gs>
              <a:gs pos="100000">
                <a:srgbClr val="ffcc66"/>
              </a:gs>
            </a:gsLst>
            <a:lin ang="108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3520" y="990720"/>
            <a:ext cx="8153280" cy="495288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286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Umsetzu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1295280"/>
            <a:ext cx="7315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UFOPLAN 2001: Initiierung eines F+E-Vorhabens zur konzeptionellen Entwicklung eines webbasierenden Zugangs für die Dioxine-Datenbank des Bundes und der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3213000"/>
            <a:ext cx="70106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Bausteine: Gestaltungskonzept, dv-Konzept nutzerbezogenes Fachkonz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bstimmung des Konzeptes mit den Mitgliedern der AG DIOXINE insbesondere zu den Zugangs- und Zugriffsre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245412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0" tIns="46800" bIns="4680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75280" y="3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31520" y="2286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utzerkonz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680" y="11430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ITC Officina Sans Book"/>
              </a:rPr>
              <a:t>Dreistufiges Vorge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11400">
            <a:off x="4267080" y="2095200"/>
            <a:ext cx="60948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00"/>
              </a:gs>
              <a:gs pos="100000">
                <a:srgbClr val="ffcc66"/>
              </a:gs>
            </a:gsLst>
            <a:lin ang="108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3124080"/>
            <a:ext cx="6248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3124080"/>
            <a:ext cx="70106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Zugang für die interessierte Öffent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Zugang für Fachnutzer (Behörden, Instit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Zugang für Datenlieferanten (Bundesländer,  Bundesbehörden, Forschungsneh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245412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0" tIns="46800" bIns="4680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75280" y="3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74200" y="260280"/>
            <a:ext cx="65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ösungsprinzipien für einen Webservic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47640" y="3500280"/>
            <a:ext cx="6248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981000"/>
            <a:ext cx="7010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Rahmenbedingungen BundOnline2005 </a:t>
            </a:r>
            <a:r>
              <a:rPr b="1" lang="en-US" sz="2400" spc="-1" strike="noStrike">
                <a:solidFill>
                  <a:srgbClr val="ffcc66"/>
                </a:solidFill>
                <a:latin typeface="Wingdings 3"/>
                <a:ea typeface="Wingdings 3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1700280"/>
            <a:ext cx="7561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Zugang zu den Daten über das Internet nach dem W3C-Standard (XML-Schem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Nach Vorgabe des Styleguide des Umweltbundesamtes sollen verschiedenen Nutzergruppen die Inhalte der Dioxin-Datenbank entsprechend ihrer Benutzerprofile für Präsentation und Erfassung zugänglich gemach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Schnittstelle zur Einbindung in das German Environment Information Network (GEIN) 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Server-Schnittstellen (SOAP, XML) zum virtuellen Umweltdatenkatalog (vUDK), um die Informationen nach Raum und Zeit verfügbar zu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urora BdCn BT"/>
              </a:rPr>
              <a:t>Lösungsprinzipien für einen Webservice (2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urora BdCn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7632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urora BdCn BT"/>
              </a:rPr>
              <a:t>Dynamische Web-Seiten unter Einsatz der serverseitigen Software PHP [1] und ASP [2] unter Beibehaltung der derzeitigen Grundfunktionalität der Dioxin-Daten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6920" y="2852640"/>
            <a:ext cx="74170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urora BdCn BT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urora BdCn BT"/>
              </a:rPr>
              <a:t>WEB-Service mit Kommunikation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urora BdCn BT"/>
              </a:rPr>
              <a:t>   </a:t>
            </a:r>
            <a:r>
              <a:rPr b="1" lang="en-US" sz="2400" spc="-1" strike="noStrike">
                <a:solidFill>
                  <a:srgbClr val="ffcc66"/>
                </a:solidFill>
                <a:latin typeface="Aurora BdCn BT"/>
              </a:rPr>
              <a:t>XML und http als CMS-System 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6920" y="4005360"/>
            <a:ext cx="7775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cc"/>
                </a:solidFill>
                <a:latin typeface="Arial"/>
              </a:rPr>
              <a:t>[1] Personal Home Page Tools, Open Source Scriptsprache zur Erstellung dynamischer Webs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cc"/>
                </a:solidFill>
                <a:latin typeface="Arial"/>
              </a:rPr>
              <a:t>[2] Active Server Pages, Technologie von Microsoft zur serverseitigen Erstellung dynamische HTML-Seiten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[3] Content Managem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14400" y="245412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0" tIns="46800" bIns="4680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75280" y="3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76320" y="2081160"/>
            <a:ext cx="914400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716960" y="3284640"/>
            <a:ext cx="663480" cy="984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716960" y="3284640"/>
            <a:ext cx="663480" cy="9842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479520" y="1473120"/>
            <a:ext cx="5079960" cy="4481640"/>
          </a:xfrm>
          <a:custGeom>
            <a:avLst/>
            <a:gdLst/>
            <a:ahLst/>
            <a:rect l="l" t="t" r="r" b="b"/>
            <a:pathLst>
              <a:path w="3200" h="2823">
                <a:moveTo>
                  <a:pt x="0" y="2823"/>
                </a:moveTo>
                <a:lnTo>
                  <a:pt x="3200" y="2823"/>
                </a:lnTo>
                <a:lnTo>
                  <a:pt x="3200" y="0"/>
                </a:lnTo>
                <a:lnTo>
                  <a:pt x="0" y="0"/>
                </a:lnTo>
                <a:lnTo>
                  <a:pt x="0" y="2823"/>
                </a:lnTo>
                <a:lnTo>
                  <a:pt x="0" y="2823"/>
                </a:lnTo>
              </a:path>
            </a:pathLst>
          </a:custGeom>
          <a:solidFill>
            <a:srgbClr val="ffcc66"/>
          </a:solidFill>
          <a:ln w="442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9000" y="1549440"/>
            <a:ext cx="1055160" cy="182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BA Datenne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0" y="2022480"/>
            <a:ext cx="1495440" cy="988920"/>
          </a:xfrm>
          <a:prstGeom prst="rect">
            <a:avLst/>
          </a:prstGeom>
          <a:solidFill>
            <a:srgbClr val="ffcc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9600" y="2495520"/>
            <a:ext cx="896760" cy="2273400"/>
          </a:xfrm>
          <a:custGeom>
            <a:avLst/>
            <a:gdLst/>
            <a:ahLst/>
            <a:rect l="l" t="t" r="r" b="b"/>
            <a:pathLst>
              <a:path w="565" h="1432">
                <a:moveTo>
                  <a:pt x="0" y="79"/>
                </a:moveTo>
                <a:lnTo>
                  <a:pt x="0" y="1355"/>
                </a:lnTo>
                <a:lnTo>
                  <a:pt x="0" y="1357"/>
                </a:lnTo>
                <a:lnTo>
                  <a:pt x="2" y="1361"/>
                </a:lnTo>
                <a:lnTo>
                  <a:pt x="3" y="1365"/>
                </a:lnTo>
                <a:lnTo>
                  <a:pt x="6" y="1369"/>
                </a:lnTo>
                <a:lnTo>
                  <a:pt x="9" y="1373"/>
                </a:lnTo>
                <a:lnTo>
                  <a:pt x="13" y="1377"/>
                </a:lnTo>
                <a:lnTo>
                  <a:pt x="18" y="1381"/>
                </a:lnTo>
                <a:lnTo>
                  <a:pt x="22" y="1383"/>
                </a:lnTo>
                <a:lnTo>
                  <a:pt x="28" y="1387"/>
                </a:lnTo>
                <a:lnTo>
                  <a:pt x="34" y="1393"/>
                </a:lnTo>
                <a:lnTo>
                  <a:pt x="41" y="1394"/>
                </a:lnTo>
                <a:lnTo>
                  <a:pt x="48" y="1397"/>
                </a:lnTo>
                <a:lnTo>
                  <a:pt x="57" y="1399"/>
                </a:lnTo>
                <a:lnTo>
                  <a:pt x="65" y="1403"/>
                </a:lnTo>
                <a:lnTo>
                  <a:pt x="73" y="1406"/>
                </a:lnTo>
                <a:lnTo>
                  <a:pt x="83" y="1408"/>
                </a:lnTo>
                <a:lnTo>
                  <a:pt x="92" y="1412"/>
                </a:lnTo>
                <a:lnTo>
                  <a:pt x="103" y="1414"/>
                </a:lnTo>
                <a:lnTo>
                  <a:pt x="114" y="1416"/>
                </a:lnTo>
                <a:lnTo>
                  <a:pt x="125" y="1418"/>
                </a:lnTo>
                <a:lnTo>
                  <a:pt x="136" y="1420"/>
                </a:lnTo>
                <a:lnTo>
                  <a:pt x="147" y="1423"/>
                </a:lnTo>
                <a:lnTo>
                  <a:pt x="160" y="1424"/>
                </a:lnTo>
                <a:lnTo>
                  <a:pt x="173" y="1425"/>
                </a:lnTo>
                <a:lnTo>
                  <a:pt x="185" y="1427"/>
                </a:lnTo>
                <a:lnTo>
                  <a:pt x="199" y="1428"/>
                </a:lnTo>
                <a:lnTo>
                  <a:pt x="211" y="1428"/>
                </a:lnTo>
                <a:lnTo>
                  <a:pt x="226" y="1429"/>
                </a:lnTo>
                <a:lnTo>
                  <a:pt x="241" y="1432"/>
                </a:lnTo>
                <a:lnTo>
                  <a:pt x="254" y="1432"/>
                </a:lnTo>
                <a:lnTo>
                  <a:pt x="283" y="1432"/>
                </a:lnTo>
                <a:lnTo>
                  <a:pt x="311" y="1432"/>
                </a:lnTo>
                <a:lnTo>
                  <a:pt x="326" y="1432"/>
                </a:lnTo>
                <a:lnTo>
                  <a:pt x="339" y="1429"/>
                </a:lnTo>
                <a:lnTo>
                  <a:pt x="353" y="1428"/>
                </a:lnTo>
                <a:lnTo>
                  <a:pt x="366" y="1428"/>
                </a:lnTo>
                <a:lnTo>
                  <a:pt x="380" y="1427"/>
                </a:lnTo>
                <a:lnTo>
                  <a:pt x="392" y="1425"/>
                </a:lnTo>
                <a:lnTo>
                  <a:pt x="404" y="1424"/>
                </a:lnTo>
                <a:lnTo>
                  <a:pt x="417" y="1423"/>
                </a:lnTo>
                <a:lnTo>
                  <a:pt x="429" y="1420"/>
                </a:lnTo>
                <a:lnTo>
                  <a:pt x="440" y="1418"/>
                </a:lnTo>
                <a:lnTo>
                  <a:pt x="451" y="1416"/>
                </a:lnTo>
                <a:lnTo>
                  <a:pt x="462" y="1414"/>
                </a:lnTo>
                <a:lnTo>
                  <a:pt x="473" y="1412"/>
                </a:lnTo>
                <a:lnTo>
                  <a:pt x="482" y="1408"/>
                </a:lnTo>
                <a:lnTo>
                  <a:pt x="492" y="1406"/>
                </a:lnTo>
                <a:lnTo>
                  <a:pt x="501" y="1403"/>
                </a:lnTo>
                <a:lnTo>
                  <a:pt x="509" y="1399"/>
                </a:lnTo>
                <a:lnTo>
                  <a:pt x="517" y="1397"/>
                </a:lnTo>
                <a:lnTo>
                  <a:pt x="524" y="1394"/>
                </a:lnTo>
                <a:lnTo>
                  <a:pt x="531" y="1393"/>
                </a:lnTo>
                <a:lnTo>
                  <a:pt x="537" y="1387"/>
                </a:lnTo>
                <a:lnTo>
                  <a:pt x="542" y="1383"/>
                </a:lnTo>
                <a:lnTo>
                  <a:pt x="547" y="1381"/>
                </a:lnTo>
                <a:lnTo>
                  <a:pt x="551" y="1377"/>
                </a:lnTo>
                <a:lnTo>
                  <a:pt x="556" y="1373"/>
                </a:lnTo>
                <a:lnTo>
                  <a:pt x="558" y="1369"/>
                </a:lnTo>
                <a:lnTo>
                  <a:pt x="561" y="1365"/>
                </a:lnTo>
                <a:lnTo>
                  <a:pt x="563" y="1361"/>
                </a:lnTo>
                <a:lnTo>
                  <a:pt x="563" y="1357"/>
                </a:lnTo>
                <a:lnTo>
                  <a:pt x="565" y="1355"/>
                </a:lnTo>
                <a:lnTo>
                  <a:pt x="565" y="1355"/>
                </a:lnTo>
                <a:lnTo>
                  <a:pt x="565" y="1355"/>
                </a:lnTo>
                <a:lnTo>
                  <a:pt x="565" y="79"/>
                </a:lnTo>
                <a:lnTo>
                  <a:pt x="563" y="72"/>
                </a:lnTo>
                <a:lnTo>
                  <a:pt x="563" y="69"/>
                </a:lnTo>
                <a:lnTo>
                  <a:pt x="561" y="64"/>
                </a:lnTo>
                <a:lnTo>
                  <a:pt x="558" y="62"/>
                </a:lnTo>
                <a:lnTo>
                  <a:pt x="556" y="58"/>
                </a:lnTo>
                <a:lnTo>
                  <a:pt x="551" y="54"/>
                </a:lnTo>
                <a:lnTo>
                  <a:pt x="547" y="51"/>
                </a:lnTo>
                <a:lnTo>
                  <a:pt x="542" y="46"/>
                </a:lnTo>
                <a:lnTo>
                  <a:pt x="537" y="43"/>
                </a:lnTo>
                <a:lnTo>
                  <a:pt x="531" y="41"/>
                </a:lnTo>
                <a:lnTo>
                  <a:pt x="524" y="38"/>
                </a:lnTo>
                <a:lnTo>
                  <a:pt x="517" y="33"/>
                </a:lnTo>
                <a:lnTo>
                  <a:pt x="509" y="30"/>
                </a:lnTo>
                <a:lnTo>
                  <a:pt x="501" y="29"/>
                </a:lnTo>
                <a:lnTo>
                  <a:pt x="492" y="25"/>
                </a:lnTo>
                <a:lnTo>
                  <a:pt x="482" y="22"/>
                </a:lnTo>
                <a:lnTo>
                  <a:pt x="473" y="20"/>
                </a:lnTo>
                <a:lnTo>
                  <a:pt x="462" y="18"/>
                </a:lnTo>
                <a:lnTo>
                  <a:pt x="451" y="15"/>
                </a:lnTo>
                <a:lnTo>
                  <a:pt x="440" y="12"/>
                </a:lnTo>
                <a:lnTo>
                  <a:pt x="429" y="11"/>
                </a:lnTo>
                <a:lnTo>
                  <a:pt x="417" y="9"/>
                </a:lnTo>
                <a:lnTo>
                  <a:pt x="404" y="7"/>
                </a:lnTo>
                <a:lnTo>
                  <a:pt x="392" y="5"/>
                </a:lnTo>
                <a:lnTo>
                  <a:pt x="380" y="4"/>
                </a:lnTo>
                <a:lnTo>
                  <a:pt x="366" y="3"/>
                </a:lnTo>
                <a:lnTo>
                  <a:pt x="353" y="1"/>
                </a:lnTo>
                <a:lnTo>
                  <a:pt x="339" y="1"/>
                </a:lnTo>
                <a:lnTo>
                  <a:pt x="326" y="0"/>
                </a:lnTo>
                <a:lnTo>
                  <a:pt x="311" y="0"/>
                </a:lnTo>
                <a:lnTo>
                  <a:pt x="283" y="0"/>
                </a:lnTo>
                <a:lnTo>
                  <a:pt x="254" y="0"/>
                </a:lnTo>
                <a:lnTo>
                  <a:pt x="241" y="0"/>
                </a:lnTo>
                <a:lnTo>
                  <a:pt x="226" y="1"/>
                </a:lnTo>
                <a:lnTo>
                  <a:pt x="211" y="1"/>
                </a:lnTo>
                <a:lnTo>
                  <a:pt x="199" y="3"/>
                </a:lnTo>
                <a:lnTo>
                  <a:pt x="185" y="4"/>
                </a:lnTo>
                <a:lnTo>
                  <a:pt x="173" y="5"/>
                </a:lnTo>
                <a:lnTo>
                  <a:pt x="160" y="7"/>
                </a:lnTo>
                <a:lnTo>
                  <a:pt x="147" y="9"/>
                </a:lnTo>
                <a:lnTo>
                  <a:pt x="136" y="11"/>
                </a:lnTo>
                <a:lnTo>
                  <a:pt x="125" y="12"/>
                </a:lnTo>
                <a:lnTo>
                  <a:pt x="114" y="15"/>
                </a:lnTo>
                <a:lnTo>
                  <a:pt x="103" y="18"/>
                </a:lnTo>
                <a:lnTo>
                  <a:pt x="92" y="20"/>
                </a:lnTo>
                <a:lnTo>
                  <a:pt x="83" y="22"/>
                </a:lnTo>
                <a:lnTo>
                  <a:pt x="73" y="25"/>
                </a:lnTo>
                <a:lnTo>
                  <a:pt x="65" y="29"/>
                </a:lnTo>
                <a:lnTo>
                  <a:pt x="57" y="30"/>
                </a:lnTo>
                <a:lnTo>
                  <a:pt x="48" y="33"/>
                </a:lnTo>
                <a:lnTo>
                  <a:pt x="41" y="38"/>
                </a:lnTo>
                <a:lnTo>
                  <a:pt x="34" y="41"/>
                </a:lnTo>
                <a:lnTo>
                  <a:pt x="28" y="43"/>
                </a:lnTo>
                <a:lnTo>
                  <a:pt x="22" y="46"/>
                </a:lnTo>
                <a:lnTo>
                  <a:pt x="18" y="51"/>
                </a:lnTo>
                <a:lnTo>
                  <a:pt x="13" y="54"/>
                </a:lnTo>
                <a:lnTo>
                  <a:pt x="9" y="58"/>
                </a:lnTo>
                <a:lnTo>
                  <a:pt x="6" y="62"/>
                </a:lnTo>
                <a:lnTo>
                  <a:pt x="3" y="64"/>
                </a:lnTo>
                <a:lnTo>
                  <a:pt x="2" y="69"/>
                </a:lnTo>
                <a:lnTo>
                  <a:pt x="0" y="72"/>
                </a:lnTo>
                <a:lnTo>
                  <a:pt x="0" y="79"/>
                </a:lnTo>
                <a:lnTo>
                  <a:pt x="0" y="79"/>
                </a:lnTo>
                <a:lnTo>
                  <a:pt x="0" y="7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2495520"/>
            <a:ext cx="896760" cy="2273400"/>
          </a:xfrm>
          <a:custGeom>
            <a:avLst/>
            <a:gdLst/>
            <a:ahLst/>
            <a:rect l="l" t="t" r="r" b="b"/>
            <a:pathLst>
              <a:path w="565" h="1432">
                <a:moveTo>
                  <a:pt x="0" y="79"/>
                </a:moveTo>
                <a:lnTo>
                  <a:pt x="0" y="1355"/>
                </a:lnTo>
                <a:lnTo>
                  <a:pt x="0" y="1357"/>
                </a:lnTo>
                <a:lnTo>
                  <a:pt x="2" y="1361"/>
                </a:lnTo>
                <a:lnTo>
                  <a:pt x="3" y="1365"/>
                </a:lnTo>
                <a:lnTo>
                  <a:pt x="6" y="1369"/>
                </a:lnTo>
                <a:lnTo>
                  <a:pt x="9" y="1373"/>
                </a:lnTo>
                <a:lnTo>
                  <a:pt x="13" y="1377"/>
                </a:lnTo>
                <a:lnTo>
                  <a:pt x="18" y="1381"/>
                </a:lnTo>
                <a:lnTo>
                  <a:pt x="22" y="1383"/>
                </a:lnTo>
                <a:lnTo>
                  <a:pt x="28" y="1387"/>
                </a:lnTo>
                <a:lnTo>
                  <a:pt x="34" y="1393"/>
                </a:lnTo>
                <a:lnTo>
                  <a:pt x="41" y="1394"/>
                </a:lnTo>
                <a:lnTo>
                  <a:pt x="48" y="1397"/>
                </a:lnTo>
                <a:lnTo>
                  <a:pt x="57" y="1399"/>
                </a:lnTo>
                <a:lnTo>
                  <a:pt x="65" y="1403"/>
                </a:lnTo>
                <a:lnTo>
                  <a:pt x="73" y="1406"/>
                </a:lnTo>
                <a:lnTo>
                  <a:pt x="83" y="1408"/>
                </a:lnTo>
                <a:lnTo>
                  <a:pt x="92" y="1412"/>
                </a:lnTo>
                <a:lnTo>
                  <a:pt x="103" y="1414"/>
                </a:lnTo>
                <a:lnTo>
                  <a:pt x="114" y="1416"/>
                </a:lnTo>
                <a:lnTo>
                  <a:pt x="125" y="1418"/>
                </a:lnTo>
                <a:lnTo>
                  <a:pt x="136" y="1420"/>
                </a:lnTo>
                <a:lnTo>
                  <a:pt x="147" y="1423"/>
                </a:lnTo>
                <a:lnTo>
                  <a:pt x="160" y="1424"/>
                </a:lnTo>
                <a:lnTo>
                  <a:pt x="173" y="1425"/>
                </a:lnTo>
                <a:lnTo>
                  <a:pt x="185" y="1427"/>
                </a:lnTo>
                <a:lnTo>
                  <a:pt x="199" y="1428"/>
                </a:lnTo>
                <a:lnTo>
                  <a:pt x="211" y="1428"/>
                </a:lnTo>
                <a:lnTo>
                  <a:pt x="226" y="1429"/>
                </a:lnTo>
                <a:lnTo>
                  <a:pt x="241" y="1432"/>
                </a:lnTo>
                <a:lnTo>
                  <a:pt x="254" y="1432"/>
                </a:lnTo>
                <a:lnTo>
                  <a:pt x="283" y="1432"/>
                </a:lnTo>
                <a:lnTo>
                  <a:pt x="311" y="1432"/>
                </a:lnTo>
                <a:lnTo>
                  <a:pt x="326" y="1432"/>
                </a:lnTo>
                <a:lnTo>
                  <a:pt x="339" y="1429"/>
                </a:lnTo>
                <a:lnTo>
                  <a:pt x="353" y="1428"/>
                </a:lnTo>
                <a:lnTo>
                  <a:pt x="366" y="1428"/>
                </a:lnTo>
                <a:lnTo>
                  <a:pt x="380" y="1427"/>
                </a:lnTo>
                <a:lnTo>
                  <a:pt x="392" y="1425"/>
                </a:lnTo>
                <a:lnTo>
                  <a:pt x="404" y="1424"/>
                </a:lnTo>
                <a:lnTo>
                  <a:pt x="417" y="1423"/>
                </a:lnTo>
                <a:lnTo>
                  <a:pt x="429" y="1420"/>
                </a:lnTo>
                <a:lnTo>
                  <a:pt x="440" y="1418"/>
                </a:lnTo>
                <a:lnTo>
                  <a:pt x="451" y="1416"/>
                </a:lnTo>
                <a:lnTo>
                  <a:pt x="462" y="1414"/>
                </a:lnTo>
                <a:lnTo>
                  <a:pt x="473" y="1412"/>
                </a:lnTo>
                <a:lnTo>
                  <a:pt x="482" y="1408"/>
                </a:lnTo>
                <a:lnTo>
                  <a:pt x="492" y="1406"/>
                </a:lnTo>
                <a:lnTo>
                  <a:pt x="501" y="1403"/>
                </a:lnTo>
                <a:lnTo>
                  <a:pt x="509" y="1399"/>
                </a:lnTo>
                <a:lnTo>
                  <a:pt x="517" y="1397"/>
                </a:lnTo>
                <a:lnTo>
                  <a:pt x="524" y="1394"/>
                </a:lnTo>
                <a:lnTo>
                  <a:pt x="531" y="1393"/>
                </a:lnTo>
                <a:lnTo>
                  <a:pt x="537" y="1387"/>
                </a:lnTo>
                <a:lnTo>
                  <a:pt x="542" y="1383"/>
                </a:lnTo>
                <a:lnTo>
                  <a:pt x="547" y="1381"/>
                </a:lnTo>
                <a:lnTo>
                  <a:pt x="551" y="1377"/>
                </a:lnTo>
                <a:lnTo>
                  <a:pt x="556" y="1373"/>
                </a:lnTo>
                <a:lnTo>
                  <a:pt x="558" y="1369"/>
                </a:lnTo>
                <a:lnTo>
                  <a:pt x="561" y="1365"/>
                </a:lnTo>
                <a:lnTo>
                  <a:pt x="563" y="1361"/>
                </a:lnTo>
                <a:lnTo>
                  <a:pt x="563" y="1357"/>
                </a:lnTo>
                <a:lnTo>
                  <a:pt x="565" y="1355"/>
                </a:lnTo>
                <a:lnTo>
                  <a:pt x="565" y="1355"/>
                </a:lnTo>
                <a:lnTo>
                  <a:pt x="565" y="1355"/>
                </a:lnTo>
                <a:lnTo>
                  <a:pt x="565" y="79"/>
                </a:lnTo>
                <a:lnTo>
                  <a:pt x="563" y="72"/>
                </a:lnTo>
                <a:lnTo>
                  <a:pt x="563" y="69"/>
                </a:lnTo>
                <a:lnTo>
                  <a:pt x="561" y="64"/>
                </a:lnTo>
                <a:lnTo>
                  <a:pt x="558" y="62"/>
                </a:lnTo>
                <a:lnTo>
                  <a:pt x="556" y="58"/>
                </a:lnTo>
                <a:lnTo>
                  <a:pt x="551" y="54"/>
                </a:lnTo>
                <a:lnTo>
                  <a:pt x="547" y="51"/>
                </a:lnTo>
                <a:lnTo>
                  <a:pt x="542" y="46"/>
                </a:lnTo>
                <a:lnTo>
                  <a:pt x="537" y="43"/>
                </a:lnTo>
                <a:lnTo>
                  <a:pt x="531" y="41"/>
                </a:lnTo>
                <a:lnTo>
                  <a:pt x="524" y="38"/>
                </a:lnTo>
                <a:lnTo>
                  <a:pt x="517" y="33"/>
                </a:lnTo>
                <a:lnTo>
                  <a:pt x="509" y="30"/>
                </a:lnTo>
                <a:lnTo>
                  <a:pt x="501" y="29"/>
                </a:lnTo>
                <a:lnTo>
                  <a:pt x="492" y="25"/>
                </a:lnTo>
                <a:lnTo>
                  <a:pt x="482" y="22"/>
                </a:lnTo>
                <a:lnTo>
                  <a:pt x="473" y="20"/>
                </a:lnTo>
                <a:lnTo>
                  <a:pt x="462" y="18"/>
                </a:lnTo>
                <a:lnTo>
                  <a:pt x="451" y="15"/>
                </a:lnTo>
                <a:lnTo>
                  <a:pt x="440" y="12"/>
                </a:lnTo>
                <a:lnTo>
                  <a:pt x="429" y="11"/>
                </a:lnTo>
                <a:lnTo>
                  <a:pt x="417" y="9"/>
                </a:lnTo>
                <a:lnTo>
                  <a:pt x="404" y="7"/>
                </a:lnTo>
                <a:lnTo>
                  <a:pt x="392" y="5"/>
                </a:lnTo>
                <a:lnTo>
                  <a:pt x="380" y="4"/>
                </a:lnTo>
                <a:lnTo>
                  <a:pt x="366" y="3"/>
                </a:lnTo>
                <a:lnTo>
                  <a:pt x="353" y="1"/>
                </a:lnTo>
                <a:lnTo>
                  <a:pt x="339" y="1"/>
                </a:lnTo>
                <a:lnTo>
                  <a:pt x="326" y="0"/>
                </a:lnTo>
                <a:lnTo>
                  <a:pt x="311" y="0"/>
                </a:lnTo>
                <a:lnTo>
                  <a:pt x="283" y="0"/>
                </a:lnTo>
                <a:lnTo>
                  <a:pt x="254" y="0"/>
                </a:lnTo>
                <a:lnTo>
                  <a:pt x="241" y="0"/>
                </a:lnTo>
                <a:lnTo>
                  <a:pt x="226" y="1"/>
                </a:lnTo>
                <a:lnTo>
                  <a:pt x="211" y="1"/>
                </a:lnTo>
                <a:lnTo>
                  <a:pt x="199" y="3"/>
                </a:lnTo>
                <a:lnTo>
                  <a:pt x="185" y="4"/>
                </a:lnTo>
                <a:lnTo>
                  <a:pt x="173" y="5"/>
                </a:lnTo>
                <a:lnTo>
                  <a:pt x="160" y="7"/>
                </a:lnTo>
                <a:lnTo>
                  <a:pt x="147" y="9"/>
                </a:lnTo>
                <a:lnTo>
                  <a:pt x="136" y="11"/>
                </a:lnTo>
                <a:lnTo>
                  <a:pt x="125" y="12"/>
                </a:lnTo>
                <a:lnTo>
                  <a:pt x="114" y="15"/>
                </a:lnTo>
                <a:lnTo>
                  <a:pt x="103" y="18"/>
                </a:lnTo>
                <a:lnTo>
                  <a:pt x="92" y="20"/>
                </a:lnTo>
                <a:lnTo>
                  <a:pt x="83" y="22"/>
                </a:lnTo>
                <a:lnTo>
                  <a:pt x="73" y="25"/>
                </a:lnTo>
                <a:lnTo>
                  <a:pt x="65" y="29"/>
                </a:lnTo>
                <a:lnTo>
                  <a:pt x="57" y="30"/>
                </a:lnTo>
                <a:lnTo>
                  <a:pt x="48" y="33"/>
                </a:lnTo>
                <a:lnTo>
                  <a:pt x="41" y="38"/>
                </a:lnTo>
                <a:lnTo>
                  <a:pt x="34" y="41"/>
                </a:lnTo>
                <a:lnTo>
                  <a:pt x="28" y="43"/>
                </a:lnTo>
                <a:lnTo>
                  <a:pt x="22" y="46"/>
                </a:lnTo>
                <a:lnTo>
                  <a:pt x="18" y="51"/>
                </a:lnTo>
                <a:lnTo>
                  <a:pt x="13" y="54"/>
                </a:lnTo>
                <a:lnTo>
                  <a:pt x="9" y="58"/>
                </a:lnTo>
                <a:lnTo>
                  <a:pt x="6" y="62"/>
                </a:lnTo>
                <a:lnTo>
                  <a:pt x="3" y="64"/>
                </a:lnTo>
                <a:lnTo>
                  <a:pt x="2" y="69"/>
                </a:lnTo>
                <a:lnTo>
                  <a:pt x="0" y="72"/>
                </a:lnTo>
                <a:lnTo>
                  <a:pt x="0" y="79"/>
                </a:lnTo>
              </a:path>
            </a:pathLst>
          </a:custGeom>
          <a:solidFill>
            <a:srgbClr val="ffcc66"/>
          </a:solidFill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600" y="2620800"/>
            <a:ext cx="896760" cy="122400"/>
          </a:xfrm>
          <a:custGeom>
            <a:avLst/>
            <a:gdLst/>
            <a:ahLst/>
            <a:rect l="l" t="t" r="r" b="b"/>
            <a:pathLst>
              <a:path w="565" h="77">
                <a:moveTo>
                  <a:pt x="0" y="0"/>
                </a:moveTo>
                <a:lnTo>
                  <a:pt x="0" y="2"/>
                </a:lnTo>
                <a:lnTo>
                  <a:pt x="2" y="6"/>
                </a:lnTo>
                <a:lnTo>
                  <a:pt x="3" y="10"/>
                </a:lnTo>
                <a:lnTo>
                  <a:pt x="6" y="14"/>
                </a:lnTo>
                <a:lnTo>
                  <a:pt x="9" y="18"/>
                </a:lnTo>
                <a:lnTo>
                  <a:pt x="13" y="22"/>
                </a:lnTo>
                <a:lnTo>
                  <a:pt x="18" y="25"/>
                </a:lnTo>
                <a:lnTo>
                  <a:pt x="22" y="28"/>
                </a:lnTo>
                <a:lnTo>
                  <a:pt x="28" y="32"/>
                </a:lnTo>
                <a:lnTo>
                  <a:pt x="34" y="35"/>
                </a:lnTo>
                <a:lnTo>
                  <a:pt x="41" y="39"/>
                </a:lnTo>
                <a:lnTo>
                  <a:pt x="48" y="42"/>
                </a:lnTo>
                <a:lnTo>
                  <a:pt x="57" y="44"/>
                </a:lnTo>
                <a:lnTo>
                  <a:pt x="65" y="48"/>
                </a:lnTo>
                <a:lnTo>
                  <a:pt x="73" y="51"/>
                </a:lnTo>
                <a:lnTo>
                  <a:pt x="83" y="53"/>
                </a:lnTo>
                <a:lnTo>
                  <a:pt x="92" y="56"/>
                </a:lnTo>
                <a:lnTo>
                  <a:pt x="103" y="59"/>
                </a:lnTo>
                <a:lnTo>
                  <a:pt x="114" y="60"/>
                </a:lnTo>
                <a:lnTo>
                  <a:pt x="125" y="63"/>
                </a:lnTo>
                <a:lnTo>
                  <a:pt x="136" y="64"/>
                </a:lnTo>
                <a:lnTo>
                  <a:pt x="147" y="68"/>
                </a:lnTo>
                <a:lnTo>
                  <a:pt x="160" y="69"/>
                </a:lnTo>
                <a:lnTo>
                  <a:pt x="173" y="70"/>
                </a:lnTo>
                <a:lnTo>
                  <a:pt x="185" y="72"/>
                </a:lnTo>
                <a:lnTo>
                  <a:pt x="199" y="73"/>
                </a:lnTo>
                <a:lnTo>
                  <a:pt x="211" y="73"/>
                </a:lnTo>
                <a:lnTo>
                  <a:pt x="226" y="74"/>
                </a:lnTo>
                <a:lnTo>
                  <a:pt x="241" y="74"/>
                </a:lnTo>
                <a:lnTo>
                  <a:pt x="254" y="74"/>
                </a:lnTo>
                <a:lnTo>
                  <a:pt x="283" y="77"/>
                </a:lnTo>
                <a:lnTo>
                  <a:pt x="311" y="74"/>
                </a:lnTo>
                <a:lnTo>
                  <a:pt x="326" y="74"/>
                </a:lnTo>
                <a:lnTo>
                  <a:pt x="339" y="74"/>
                </a:lnTo>
                <a:lnTo>
                  <a:pt x="353" y="73"/>
                </a:lnTo>
                <a:lnTo>
                  <a:pt x="366" y="73"/>
                </a:lnTo>
                <a:lnTo>
                  <a:pt x="380" y="72"/>
                </a:lnTo>
                <a:lnTo>
                  <a:pt x="392" y="70"/>
                </a:lnTo>
                <a:lnTo>
                  <a:pt x="404" y="69"/>
                </a:lnTo>
                <a:lnTo>
                  <a:pt x="417" y="68"/>
                </a:lnTo>
                <a:lnTo>
                  <a:pt x="429" y="64"/>
                </a:lnTo>
                <a:lnTo>
                  <a:pt x="440" y="63"/>
                </a:lnTo>
                <a:lnTo>
                  <a:pt x="451" y="60"/>
                </a:lnTo>
                <a:lnTo>
                  <a:pt x="462" y="59"/>
                </a:lnTo>
                <a:lnTo>
                  <a:pt x="473" y="56"/>
                </a:lnTo>
                <a:lnTo>
                  <a:pt x="482" y="53"/>
                </a:lnTo>
                <a:lnTo>
                  <a:pt x="492" y="51"/>
                </a:lnTo>
                <a:lnTo>
                  <a:pt x="501" y="48"/>
                </a:lnTo>
                <a:lnTo>
                  <a:pt x="509" y="44"/>
                </a:lnTo>
                <a:lnTo>
                  <a:pt x="517" y="42"/>
                </a:lnTo>
                <a:lnTo>
                  <a:pt x="524" y="39"/>
                </a:lnTo>
                <a:lnTo>
                  <a:pt x="531" y="35"/>
                </a:lnTo>
                <a:lnTo>
                  <a:pt x="537" y="32"/>
                </a:lnTo>
                <a:lnTo>
                  <a:pt x="542" y="28"/>
                </a:lnTo>
                <a:lnTo>
                  <a:pt x="547" y="25"/>
                </a:lnTo>
                <a:lnTo>
                  <a:pt x="551" y="22"/>
                </a:lnTo>
                <a:lnTo>
                  <a:pt x="556" y="18"/>
                </a:lnTo>
                <a:lnTo>
                  <a:pt x="558" y="14"/>
                </a:lnTo>
                <a:lnTo>
                  <a:pt x="561" y="10"/>
                </a:lnTo>
                <a:lnTo>
                  <a:pt x="563" y="6"/>
                </a:lnTo>
                <a:lnTo>
                  <a:pt x="563" y="2"/>
                </a:lnTo>
                <a:lnTo>
                  <a:pt x="565" y="0"/>
                </a:lnTo>
                <a:lnTo>
                  <a:pt x="565" y="0"/>
                </a:lnTo>
              </a:path>
            </a:pathLst>
          </a:custGeom>
          <a:solidFill>
            <a:srgbClr val="ffcc66"/>
          </a:solidFill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3920" y="3459240"/>
            <a:ext cx="57528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en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5560" y="3692520"/>
            <a:ext cx="41688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14440" y="2084400"/>
            <a:ext cx="1495440" cy="988920"/>
          </a:xfrm>
          <a:custGeom>
            <a:avLst/>
            <a:gdLst/>
            <a:ahLst/>
            <a:rect l="l" t="t" r="r" b="b"/>
            <a:pathLst>
              <a:path w="942" h="623">
                <a:moveTo>
                  <a:pt x="0" y="623"/>
                </a:moveTo>
                <a:lnTo>
                  <a:pt x="942" y="623"/>
                </a:lnTo>
                <a:lnTo>
                  <a:pt x="942" y="0"/>
                </a:lnTo>
                <a:lnTo>
                  <a:pt x="0" y="0"/>
                </a:lnTo>
                <a:lnTo>
                  <a:pt x="0" y="623"/>
                </a:lnTo>
                <a:lnTo>
                  <a:pt x="0" y="623"/>
                </a:lnTo>
              </a:path>
            </a:pathLst>
          </a:custGeom>
          <a:solidFill>
            <a:srgbClr val="ffcc66"/>
          </a:solidFill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80680" y="2479680"/>
            <a:ext cx="142560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View Fachnutz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71600" y="4329000"/>
            <a:ext cx="1495440" cy="98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71600" y="4329000"/>
            <a:ext cx="1495440" cy="989280"/>
          </a:xfrm>
          <a:custGeom>
            <a:avLst/>
            <a:gdLst/>
            <a:ahLst/>
            <a:rect l="l" t="t" r="r" b="b"/>
            <a:pathLst>
              <a:path w="942" h="623">
                <a:moveTo>
                  <a:pt x="0" y="623"/>
                </a:moveTo>
                <a:lnTo>
                  <a:pt x="942" y="623"/>
                </a:lnTo>
                <a:lnTo>
                  <a:pt x="942" y="0"/>
                </a:lnTo>
                <a:lnTo>
                  <a:pt x="0" y="0"/>
                </a:lnTo>
                <a:lnTo>
                  <a:pt x="0" y="623"/>
                </a:lnTo>
                <a:lnTo>
                  <a:pt x="0" y="623"/>
                </a:lnTo>
              </a:path>
            </a:pathLst>
          </a:custGeom>
          <a:solidFill>
            <a:srgbClr val="ffcc66"/>
          </a:solidFill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45040" y="4405320"/>
            <a:ext cx="41364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42160" y="4640400"/>
            <a:ext cx="140724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enlieferant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27480" y="4083120"/>
            <a:ext cx="471600" cy="17280"/>
          </a:xfrm>
          <a:custGeom>
            <a:avLst/>
            <a:gdLst/>
            <a:ahLst/>
            <a:rect l="l" t="t" r="r" b="b"/>
            <a:pathLst>
              <a:path w="297" h="11">
                <a:moveTo>
                  <a:pt x="297" y="7"/>
                </a:moveTo>
                <a:lnTo>
                  <a:pt x="297" y="5"/>
                </a:lnTo>
                <a:lnTo>
                  <a:pt x="296" y="5"/>
                </a:lnTo>
                <a:lnTo>
                  <a:pt x="296" y="4"/>
                </a:lnTo>
                <a:lnTo>
                  <a:pt x="296" y="4"/>
                </a:lnTo>
                <a:lnTo>
                  <a:pt x="296" y="4"/>
                </a:lnTo>
                <a:lnTo>
                  <a:pt x="296" y="4"/>
                </a:lnTo>
                <a:lnTo>
                  <a:pt x="296" y="3"/>
                </a:lnTo>
                <a:lnTo>
                  <a:pt x="296" y="3"/>
                </a:lnTo>
                <a:lnTo>
                  <a:pt x="295" y="0"/>
                </a:lnTo>
                <a:lnTo>
                  <a:pt x="295" y="0"/>
                </a:lnTo>
                <a:lnTo>
                  <a:pt x="293" y="0"/>
                </a:lnTo>
                <a:lnTo>
                  <a:pt x="293" y="0"/>
                </a:lnTo>
                <a:lnTo>
                  <a:pt x="293" y="0"/>
                </a:lnTo>
                <a:lnTo>
                  <a:pt x="293" y="0"/>
                </a:lnTo>
                <a:lnTo>
                  <a:pt x="292" y="0"/>
                </a:lnTo>
                <a:lnTo>
                  <a:pt x="292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3" y="11"/>
                </a:lnTo>
                <a:lnTo>
                  <a:pt x="3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292" y="11"/>
                </a:lnTo>
                <a:lnTo>
                  <a:pt x="292" y="11"/>
                </a:lnTo>
                <a:lnTo>
                  <a:pt x="293" y="11"/>
                </a:lnTo>
                <a:lnTo>
                  <a:pt x="293" y="11"/>
                </a:lnTo>
                <a:lnTo>
                  <a:pt x="293" y="11"/>
                </a:lnTo>
                <a:lnTo>
                  <a:pt x="293" y="11"/>
                </a:lnTo>
                <a:lnTo>
                  <a:pt x="295" y="11"/>
                </a:lnTo>
                <a:lnTo>
                  <a:pt x="295" y="11"/>
                </a:lnTo>
                <a:lnTo>
                  <a:pt x="296" y="9"/>
                </a:lnTo>
                <a:lnTo>
                  <a:pt x="296" y="9"/>
                </a:lnTo>
                <a:lnTo>
                  <a:pt x="296" y="9"/>
                </a:lnTo>
                <a:lnTo>
                  <a:pt x="296" y="9"/>
                </a:lnTo>
                <a:lnTo>
                  <a:pt x="296" y="8"/>
                </a:lnTo>
                <a:lnTo>
                  <a:pt x="296" y="8"/>
                </a:lnTo>
                <a:lnTo>
                  <a:pt x="296" y="7"/>
                </a:lnTo>
                <a:lnTo>
                  <a:pt x="297" y="7"/>
                </a:lnTo>
                <a:lnTo>
                  <a:pt x="297" y="7"/>
                </a:lnTo>
                <a:lnTo>
                  <a:pt x="297" y="7"/>
                </a:lnTo>
                <a:lnTo>
                  <a:pt x="297" y="7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27480" y="4083120"/>
            <a:ext cx="471600" cy="17280"/>
          </a:xfrm>
          <a:custGeom>
            <a:avLst/>
            <a:gdLst/>
            <a:ahLst/>
            <a:rect l="l" t="t" r="r" b="b"/>
            <a:pathLst>
              <a:path w="297" h="11">
                <a:moveTo>
                  <a:pt x="297" y="7"/>
                </a:moveTo>
                <a:lnTo>
                  <a:pt x="297" y="5"/>
                </a:lnTo>
                <a:lnTo>
                  <a:pt x="296" y="5"/>
                </a:lnTo>
                <a:lnTo>
                  <a:pt x="296" y="4"/>
                </a:lnTo>
                <a:lnTo>
                  <a:pt x="296" y="4"/>
                </a:lnTo>
                <a:lnTo>
                  <a:pt x="296" y="4"/>
                </a:lnTo>
                <a:lnTo>
                  <a:pt x="296" y="4"/>
                </a:lnTo>
                <a:lnTo>
                  <a:pt x="296" y="3"/>
                </a:lnTo>
                <a:lnTo>
                  <a:pt x="296" y="3"/>
                </a:lnTo>
                <a:lnTo>
                  <a:pt x="295" y="0"/>
                </a:lnTo>
                <a:lnTo>
                  <a:pt x="295" y="0"/>
                </a:lnTo>
                <a:lnTo>
                  <a:pt x="293" y="0"/>
                </a:lnTo>
                <a:lnTo>
                  <a:pt x="293" y="0"/>
                </a:lnTo>
                <a:lnTo>
                  <a:pt x="293" y="0"/>
                </a:lnTo>
                <a:lnTo>
                  <a:pt x="293" y="0"/>
                </a:lnTo>
                <a:lnTo>
                  <a:pt x="292" y="0"/>
                </a:lnTo>
                <a:lnTo>
                  <a:pt x="292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3" y="11"/>
                </a:lnTo>
                <a:lnTo>
                  <a:pt x="3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292" y="11"/>
                </a:lnTo>
                <a:lnTo>
                  <a:pt x="292" y="11"/>
                </a:lnTo>
                <a:lnTo>
                  <a:pt x="293" y="11"/>
                </a:lnTo>
                <a:lnTo>
                  <a:pt x="293" y="11"/>
                </a:lnTo>
                <a:lnTo>
                  <a:pt x="293" y="11"/>
                </a:lnTo>
                <a:lnTo>
                  <a:pt x="293" y="11"/>
                </a:lnTo>
                <a:lnTo>
                  <a:pt x="295" y="11"/>
                </a:lnTo>
                <a:lnTo>
                  <a:pt x="295" y="11"/>
                </a:lnTo>
                <a:lnTo>
                  <a:pt x="296" y="9"/>
                </a:lnTo>
                <a:lnTo>
                  <a:pt x="296" y="9"/>
                </a:lnTo>
                <a:lnTo>
                  <a:pt x="296" y="9"/>
                </a:lnTo>
                <a:lnTo>
                  <a:pt x="296" y="9"/>
                </a:lnTo>
                <a:lnTo>
                  <a:pt x="296" y="8"/>
                </a:lnTo>
                <a:lnTo>
                  <a:pt x="296" y="8"/>
                </a:lnTo>
                <a:lnTo>
                  <a:pt x="296" y="7"/>
                </a:lnTo>
                <a:lnTo>
                  <a:pt x="297" y="7"/>
                </a:lnTo>
                <a:lnTo>
                  <a:pt x="297" y="7"/>
                </a:lnTo>
                <a:lnTo>
                  <a:pt x="297" y="7"/>
                </a:lnTo>
                <a:lnTo>
                  <a:pt x="297" y="7"/>
                </a:lnTo>
                <a:close/>
              </a:path>
            </a:pathLst>
          </a:custGeom>
          <a:solidFill>
            <a:srgbClr val="ffcc66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27480" y="4083120"/>
            <a:ext cx="471600" cy="17280"/>
          </a:xfrm>
          <a:custGeom>
            <a:avLst/>
            <a:gdLst/>
            <a:ahLst/>
            <a:rect l="l" t="t" r="r" b="b"/>
            <a:pathLst>
              <a:path w="297" h="11">
                <a:moveTo>
                  <a:pt x="297" y="7"/>
                </a:moveTo>
                <a:lnTo>
                  <a:pt x="297" y="5"/>
                </a:lnTo>
                <a:lnTo>
                  <a:pt x="296" y="5"/>
                </a:lnTo>
                <a:lnTo>
                  <a:pt x="296" y="4"/>
                </a:lnTo>
                <a:lnTo>
                  <a:pt x="296" y="4"/>
                </a:lnTo>
                <a:lnTo>
                  <a:pt x="296" y="4"/>
                </a:lnTo>
                <a:lnTo>
                  <a:pt x="296" y="4"/>
                </a:lnTo>
                <a:lnTo>
                  <a:pt x="296" y="3"/>
                </a:lnTo>
                <a:lnTo>
                  <a:pt x="296" y="3"/>
                </a:lnTo>
                <a:lnTo>
                  <a:pt x="295" y="0"/>
                </a:lnTo>
                <a:lnTo>
                  <a:pt x="295" y="0"/>
                </a:lnTo>
                <a:lnTo>
                  <a:pt x="293" y="0"/>
                </a:lnTo>
                <a:lnTo>
                  <a:pt x="293" y="0"/>
                </a:lnTo>
                <a:lnTo>
                  <a:pt x="293" y="0"/>
                </a:lnTo>
                <a:lnTo>
                  <a:pt x="293" y="0"/>
                </a:lnTo>
                <a:lnTo>
                  <a:pt x="292" y="0"/>
                </a:lnTo>
                <a:lnTo>
                  <a:pt x="292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1"/>
                </a:lnTo>
                <a:lnTo>
                  <a:pt x="3" y="11"/>
                </a:lnTo>
                <a:lnTo>
                  <a:pt x="3" y="11"/>
                </a:ln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lnTo>
                  <a:pt x="6" y="11"/>
                </a:lnTo>
                <a:lnTo>
                  <a:pt x="6" y="11"/>
                </a:lnTo>
                <a:lnTo>
                  <a:pt x="292" y="11"/>
                </a:lnTo>
                <a:lnTo>
                  <a:pt x="292" y="11"/>
                </a:lnTo>
                <a:lnTo>
                  <a:pt x="293" y="11"/>
                </a:lnTo>
                <a:lnTo>
                  <a:pt x="293" y="11"/>
                </a:lnTo>
                <a:lnTo>
                  <a:pt x="293" y="11"/>
                </a:lnTo>
                <a:lnTo>
                  <a:pt x="293" y="11"/>
                </a:lnTo>
                <a:lnTo>
                  <a:pt x="295" y="11"/>
                </a:lnTo>
                <a:lnTo>
                  <a:pt x="295" y="11"/>
                </a:lnTo>
                <a:lnTo>
                  <a:pt x="296" y="9"/>
                </a:lnTo>
                <a:lnTo>
                  <a:pt x="296" y="9"/>
                </a:lnTo>
                <a:lnTo>
                  <a:pt x="296" y="9"/>
                </a:lnTo>
                <a:lnTo>
                  <a:pt x="296" y="9"/>
                </a:lnTo>
                <a:lnTo>
                  <a:pt x="296" y="8"/>
                </a:lnTo>
                <a:lnTo>
                  <a:pt x="296" y="8"/>
                </a:lnTo>
                <a:lnTo>
                  <a:pt x="296" y="7"/>
                </a:lnTo>
                <a:lnTo>
                  <a:pt x="297" y="7"/>
                </a:lnTo>
                <a:lnTo>
                  <a:pt x="297" y="7"/>
                </a:lnTo>
                <a:lnTo>
                  <a:pt x="297" y="7"/>
                </a:lnTo>
              </a:path>
            </a:pathLst>
          </a:custGeom>
          <a:solidFill>
            <a:srgbClr val="ffcc66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19560" y="3181320"/>
            <a:ext cx="488880" cy="912960"/>
          </a:xfrm>
          <a:custGeom>
            <a:avLst/>
            <a:gdLst/>
            <a:ahLst/>
            <a:rect l="l" t="t" r="r" b="b"/>
            <a:pathLst>
              <a:path w="308" h="575">
                <a:moveTo>
                  <a:pt x="308" y="8"/>
                </a:moveTo>
                <a:lnTo>
                  <a:pt x="308" y="8"/>
                </a:lnTo>
                <a:lnTo>
                  <a:pt x="308" y="7"/>
                </a:lnTo>
                <a:lnTo>
                  <a:pt x="308" y="4"/>
                </a:lnTo>
                <a:lnTo>
                  <a:pt x="308" y="4"/>
                </a:lnTo>
                <a:lnTo>
                  <a:pt x="306" y="4"/>
                </a:lnTo>
                <a:lnTo>
                  <a:pt x="306" y="4"/>
                </a:lnTo>
                <a:lnTo>
                  <a:pt x="306" y="3"/>
                </a:lnTo>
                <a:lnTo>
                  <a:pt x="305" y="3"/>
                </a:lnTo>
                <a:lnTo>
                  <a:pt x="305" y="1"/>
                </a:lnTo>
                <a:lnTo>
                  <a:pt x="305" y="1"/>
                </a:lnTo>
                <a:lnTo>
                  <a:pt x="305" y="1"/>
                </a:lnTo>
                <a:lnTo>
                  <a:pt x="304" y="1"/>
                </a:lnTo>
                <a:lnTo>
                  <a:pt x="304" y="1"/>
                </a:lnTo>
                <a:lnTo>
                  <a:pt x="304" y="1"/>
                </a:lnTo>
                <a:lnTo>
                  <a:pt x="302" y="0"/>
                </a:lnTo>
                <a:lnTo>
                  <a:pt x="301" y="0"/>
                </a:lnTo>
                <a:lnTo>
                  <a:pt x="7" y="0"/>
                </a:lnTo>
                <a:lnTo>
                  <a:pt x="5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3"/>
                </a:lnTo>
                <a:lnTo>
                  <a:pt x="1" y="3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0" y="571"/>
                </a:lnTo>
                <a:lnTo>
                  <a:pt x="0" y="571"/>
                </a:lnTo>
                <a:lnTo>
                  <a:pt x="0" y="572"/>
                </a:lnTo>
                <a:lnTo>
                  <a:pt x="1" y="572"/>
                </a:lnTo>
                <a:lnTo>
                  <a:pt x="1" y="572"/>
                </a:lnTo>
                <a:lnTo>
                  <a:pt x="3" y="573"/>
                </a:lnTo>
                <a:lnTo>
                  <a:pt x="3" y="573"/>
                </a:lnTo>
                <a:lnTo>
                  <a:pt x="3" y="575"/>
                </a:lnTo>
                <a:lnTo>
                  <a:pt x="3" y="575"/>
                </a:lnTo>
                <a:lnTo>
                  <a:pt x="4" y="575"/>
                </a:lnTo>
                <a:lnTo>
                  <a:pt x="4" y="575"/>
                </a:lnTo>
                <a:lnTo>
                  <a:pt x="4" y="575"/>
                </a:lnTo>
                <a:lnTo>
                  <a:pt x="5" y="575"/>
                </a:lnTo>
                <a:lnTo>
                  <a:pt x="7" y="575"/>
                </a:lnTo>
                <a:lnTo>
                  <a:pt x="301" y="575"/>
                </a:lnTo>
                <a:lnTo>
                  <a:pt x="302" y="575"/>
                </a:lnTo>
                <a:lnTo>
                  <a:pt x="304" y="575"/>
                </a:lnTo>
                <a:lnTo>
                  <a:pt x="304" y="575"/>
                </a:lnTo>
                <a:lnTo>
                  <a:pt x="304" y="575"/>
                </a:lnTo>
                <a:lnTo>
                  <a:pt x="305" y="575"/>
                </a:lnTo>
                <a:lnTo>
                  <a:pt x="305" y="575"/>
                </a:lnTo>
                <a:lnTo>
                  <a:pt x="305" y="573"/>
                </a:lnTo>
                <a:lnTo>
                  <a:pt x="305" y="573"/>
                </a:lnTo>
                <a:lnTo>
                  <a:pt x="306" y="572"/>
                </a:lnTo>
                <a:lnTo>
                  <a:pt x="306" y="572"/>
                </a:lnTo>
                <a:lnTo>
                  <a:pt x="306" y="572"/>
                </a:lnTo>
                <a:lnTo>
                  <a:pt x="308" y="571"/>
                </a:lnTo>
                <a:lnTo>
                  <a:pt x="308" y="571"/>
                </a:lnTo>
                <a:lnTo>
                  <a:pt x="308" y="568"/>
                </a:lnTo>
                <a:lnTo>
                  <a:pt x="308" y="568"/>
                </a:lnTo>
                <a:lnTo>
                  <a:pt x="308" y="568"/>
                </a:lnTo>
                <a:lnTo>
                  <a:pt x="308" y="8"/>
                </a:lnTo>
                <a:lnTo>
                  <a:pt x="308" y="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19560" y="3181320"/>
            <a:ext cx="488880" cy="912960"/>
          </a:xfrm>
          <a:custGeom>
            <a:avLst/>
            <a:gdLst/>
            <a:ahLst/>
            <a:rect l="l" t="t" r="r" b="b"/>
            <a:pathLst>
              <a:path w="308" h="575">
                <a:moveTo>
                  <a:pt x="308" y="8"/>
                </a:moveTo>
                <a:lnTo>
                  <a:pt x="308" y="8"/>
                </a:lnTo>
                <a:lnTo>
                  <a:pt x="308" y="7"/>
                </a:lnTo>
                <a:lnTo>
                  <a:pt x="308" y="4"/>
                </a:lnTo>
                <a:lnTo>
                  <a:pt x="308" y="4"/>
                </a:lnTo>
                <a:lnTo>
                  <a:pt x="306" y="4"/>
                </a:lnTo>
                <a:lnTo>
                  <a:pt x="306" y="4"/>
                </a:lnTo>
                <a:lnTo>
                  <a:pt x="306" y="3"/>
                </a:lnTo>
                <a:lnTo>
                  <a:pt x="305" y="3"/>
                </a:lnTo>
                <a:lnTo>
                  <a:pt x="305" y="1"/>
                </a:lnTo>
                <a:lnTo>
                  <a:pt x="305" y="1"/>
                </a:lnTo>
                <a:lnTo>
                  <a:pt x="305" y="1"/>
                </a:lnTo>
                <a:lnTo>
                  <a:pt x="304" y="1"/>
                </a:lnTo>
                <a:lnTo>
                  <a:pt x="304" y="1"/>
                </a:lnTo>
                <a:lnTo>
                  <a:pt x="304" y="1"/>
                </a:lnTo>
                <a:lnTo>
                  <a:pt x="302" y="0"/>
                </a:lnTo>
                <a:lnTo>
                  <a:pt x="301" y="0"/>
                </a:lnTo>
                <a:lnTo>
                  <a:pt x="7" y="0"/>
                </a:lnTo>
                <a:lnTo>
                  <a:pt x="5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3"/>
                </a:lnTo>
                <a:lnTo>
                  <a:pt x="1" y="3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0" y="571"/>
                </a:lnTo>
                <a:lnTo>
                  <a:pt x="0" y="571"/>
                </a:lnTo>
                <a:lnTo>
                  <a:pt x="0" y="572"/>
                </a:lnTo>
                <a:lnTo>
                  <a:pt x="1" y="572"/>
                </a:lnTo>
                <a:lnTo>
                  <a:pt x="1" y="572"/>
                </a:lnTo>
                <a:lnTo>
                  <a:pt x="3" y="573"/>
                </a:lnTo>
                <a:lnTo>
                  <a:pt x="3" y="573"/>
                </a:lnTo>
                <a:lnTo>
                  <a:pt x="3" y="575"/>
                </a:lnTo>
                <a:lnTo>
                  <a:pt x="3" y="575"/>
                </a:lnTo>
                <a:lnTo>
                  <a:pt x="4" y="575"/>
                </a:lnTo>
                <a:lnTo>
                  <a:pt x="4" y="575"/>
                </a:lnTo>
                <a:lnTo>
                  <a:pt x="4" y="575"/>
                </a:lnTo>
                <a:lnTo>
                  <a:pt x="5" y="575"/>
                </a:lnTo>
                <a:lnTo>
                  <a:pt x="7" y="575"/>
                </a:lnTo>
                <a:lnTo>
                  <a:pt x="301" y="575"/>
                </a:lnTo>
                <a:lnTo>
                  <a:pt x="302" y="575"/>
                </a:lnTo>
                <a:lnTo>
                  <a:pt x="304" y="575"/>
                </a:lnTo>
                <a:lnTo>
                  <a:pt x="304" y="575"/>
                </a:lnTo>
                <a:lnTo>
                  <a:pt x="304" y="575"/>
                </a:lnTo>
                <a:lnTo>
                  <a:pt x="305" y="575"/>
                </a:lnTo>
                <a:lnTo>
                  <a:pt x="305" y="575"/>
                </a:lnTo>
                <a:lnTo>
                  <a:pt x="305" y="573"/>
                </a:lnTo>
                <a:lnTo>
                  <a:pt x="305" y="573"/>
                </a:lnTo>
                <a:lnTo>
                  <a:pt x="306" y="572"/>
                </a:lnTo>
                <a:lnTo>
                  <a:pt x="306" y="572"/>
                </a:lnTo>
                <a:lnTo>
                  <a:pt x="306" y="572"/>
                </a:lnTo>
                <a:lnTo>
                  <a:pt x="308" y="571"/>
                </a:lnTo>
                <a:lnTo>
                  <a:pt x="308" y="571"/>
                </a:lnTo>
                <a:lnTo>
                  <a:pt x="308" y="568"/>
                </a:lnTo>
                <a:lnTo>
                  <a:pt x="308" y="568"/>
                </a:lnTo>
                <a:lnTo>
                  <a:pt x="308" y="568"/>
                </a:lnTo>
                <a:lnTo>
                  <a:pt x="308" y="8"/>
                </a:lnTo>
                <a:lnTo>
                  <a:pt x="308" y="8"/>
                </a:lnTo>
                <a:close/>
              </a:path>
            </a:pathLst>
          </a:custGeom>
          <a:solidFill>
            <a:srgbClr val="ffcc66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19560" y="3181320"/>
            <a:ext cx="488880" cy="912960"/>
          </a:xfrm>
          <a:custGeom>
            <a:avLst/>
            <a:gdLst/>
            <a:ahLst/>
            <a:rect l="l" t="t" r="r" b="b"/>
            <a:pathLst>
              <a:path w="308" h="575">
                <a:moveTo>
                  <a:pt x="308" y="8"/>
                </a:moveTo>
                <a:lnTo>
                  <a:pt x="308" y="8"/>
                </a:lnTo>
                <a:lnTo>
                  <a:pt x="308" y="7"/>
                </a:lnTo>
                <a:lnTo>
                  <a:pt x="308" y="4"/>
                </a:lnTo>
                <a:lnTo>
                  <a:pt x="308" y="4"/>
                </a:lnTo>
                <a:lnTo>
                  <a:pt x="306" y="4"/>
                </a:lnTo>
                <a:lnTo>
                  <a:pt x="306" y="4"/>
                </a:lnTo>
                <a:lnTo>
                  <a:pt x="306" y="3"/>
                </a:lnTo>
                <a:lnTo>
                  <a:pt x="305" y="3"/>
                </a:lnTo>
                <a:lnTo>
                  <a:pt x="305" y="1"/>
                </a:lnTo>
                <a:lnTo>
                  <a:pt x="305" y="1"/>
                </a:lnTo>
                <a:lnTo>
                  <a:pt x="305" y="1"/>
                </a:lnTo>
                <a:lnTo>
                  <a:pt x="304" y="1"/>
                </a:lnTo>
                <a:lnTo>
                  <a:pt x="304" y="1"/>
                </a:lnTo>
                <a:lnTo>
                  <a:pt x="304" y="1"/>
                </a:lnTo>
                <a:lnTo>
                  <a:pt x="302" y="0"/>
                </a:lnTo>
                <a:lnTo>
                  <a:pt x="301" y="0"/>
                </a:lnTo>
                <a:lnTo>
                  <a:pt x="7" y="0"/>
                </a:lnTo>
                <a:lnTo>
                  <a:pt x="5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3"/>
                </a:lnTo>
                <a:lnTo>
                  <a:pt x="1" y="3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0" y="571"/>
                </a:lnTo>
                <a:lnTo>
                  <a:pt x="0" y="571"/>
                </a:lnTo>
                <a:lnTo>
                  <a:pt x="0" y="572"/>
                </a:lnTo>
                <a:lnTo>
                  <a:pt x="1" y="572"/>
                </a:lnTo>
                <a:lnTo>
                  <a:pt x="1" y="572"/>
                </a:lnTo>
                <a:lnTo>
                  <a:pt x="3" y="573"/>
                </a:lnTo>
                <a:lnTo>
                  <a:pt x="3" y="573"/>
                </a:lnTo>
                <a:lnTo>
                  <a:pt x="3" y="575"/>
                </a:lnTo>
                <a:lnTo>
                  <a:pt x="3" y="575"/>
                </a:lnTo>
                <a:lnTo>
                  <a:pt x="4" y="575"/>
                </a:lnTo>
                <a:lnTo>
                  <a:pt x="4" y="575"/>
                </a:lnTo>
                <a:lnTo>
                  <a:pt x="4" y="575"/>
                </a:lnTo>
                <a:lnTo>
                  <a:pt x="5" y="575"/>
                </a:lnTo>
                <a:lnTo>
                  <a:pt x="7" y="575"/>
                </a:lnTo>
                <a:lnTo>
                  <a:pt x="301" y="575"/>
                </a:lnTo>
                <a:lnTo>
                  <a:pt x="302" y="575"/>
                </a:lnTo>
                <a:lnTo>
                  <a:pt x="304" y="575"/>
                </a:lnTo>
                <a:lnTo>
                  <a:pt x="304" y="575"/>
                </a:lnTo>
                <a:lnTo>
                  <a:pt x="304" y="575"/>
                </a:lnTo>
                <a:lnTo>
                  <a:pt x="305" y="575"/>
                </a:lnTo>
                <a:lnTo>
                  <a:pt x="305" y="575"/>
                </a:lnTo>
                <a:lnTo>
                  <a:pt x="305" y="573"/>
                </a:lnTo>
                <a:lnTo>
                  <a:pt x="305" y="573"/>
                </a:lnTo>
                <a:lnTo>
                  <a:pt x="306" y="572"/>
                </a:lnTo>
                <a:lnTo>
                  <a:pt x="306" y="572"/>
                </a:lnTo>
                <a:lnTo>
                  <a:pt x="306" y="572"/>
                </a:lnTo>
                <a:lnTo>
                  <a:pt x="308" y="571"/>
                </a:lnTo>
                <a:lnTo>
                  <a:pt x="308" y="571"/>
                </a:lnTo>
                <a:lnTo>
                  <a:pt x="308" y="568"/>
                </a:lnTo>
                <a:lnTo>
                  <a:pt x="308" y="568"/>
                </a:lnTo>
                <a:lnTo>
                  <a:pt x="308" y="568"/>
                </a:lnTo>
                <a:lnTo>
                  <a:pt x="308" y="8"/>
                </a:lnTo>
              </a:path>
            </a:pathLst>
          </a:custGeom>
          <a:solidFill>
            <a:srgbClr val="ffcc66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64000" y="3198960"/>
            <a:ext cx="216000" cy="828360"/>
          </a:xfrm>
          <a:custGeom>
            <a:avLst/>
            <a:gdLst/>
            <a:ahLst/>
            <a:rect l="l" t="t" r="r" b="b"/>
            <a:pathLst>
              <a:path w="136" h="522">
                <a:moveTo>
                  <a:pt x="136" y="0"/>
                </a:moveTo>
                <a:lnTo>
                  <a:pt x="0" y="0"/>
                </a:lnTo>
                <a:lnTo>
                  <a:pt x="0" y="522"/>
                </a:lnTo>
                <a:lnTo>
                  <a:pt x="136" y="522"/>
                </a:lnTo>
                <a:lnTo>
                  <a:pt x="136" y="0"/>
                </a:lnTo>
                <a:lnTo>
                  <a:pt x="136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64000" y="3198960"/>
            <a:ext cx="216000" cy="828360"/>
          </a:xfrm>
          <a:custGeom>
            <a:avLst/>
            <a:gdLst/>
            <a:ahLst/>
            <a:rect l="l" t="t" r="r" b="b"/>
            <a:pathLst>
              <a:path w="136" h="522">
                <a:moveTo>
                  <a:pt x="136" y="0"/>
                </a:moveTo>
                <a:lnTo>
                  <a:pt x="0" y="0"/>
                </a:lnTo>
                <a:lnTo>
                  <a:pt x="0" y="522"/>
                </a:lnTo>
                <a:lnTo>
                  <a:pt x="136" y="522"/>
                </a:lnTo>
                <a:lnTo>
                  <a:pt x="136" y="0"/>
                </a:lnTo>
                <a:lnTo>
                  <a:pt x="136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64000" y="3198960"/>
            <a:ext cx="216000" cy="82836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70480" y="3201840"/>
            <a:ext cx="203040" cy="733680"/>
          </a:xfrm>
          <a:custGeom>
            <a:avLst/>
            <a:gdLst/>
            <a:ahLst/>
            <a:rect l="l" t="t" r="r" b="b"/>
            <a:pathLst>
              <a:path w="128" h="462">
                <a:moveTo>
                  <a:pt x="128" y="5"/>
                </a:moveTo>
                <a:lnTo>
                  <a:pt x="128" y="4"/>
                </a:lnTo>
                <a:lnTo>
                  <a:pt x="128" y="4"/>
                </a:lnTo>
                <a:lnTo>
                  <a:pt x="127" y="3"/>
                </a:lnTo>
                <a:lnTo>
                  <a:pt x="127" y="3"/>
                </a:lnTo>
                <a:lnTo>
                  <a:pt x="127" y="3"/>
                </a:lnTo>
                <a:lnTo>
                  <a:pt x="127" y="0"/>
                </a:lnTo>
                <a:lnTo>
                  <a:pt x="125" y="0"/>
                </a:lnTo>
                <a:lnTo>
                  <a:pt x="12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1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458"/>
                </a:lnTo>
                <a:lnTo>
                  <a:pt x="0" y="458"/>
                </a:lnTo>
                <a:lnTo>
                  <a:pt x="0" y="461"/>
                </a:lnTo>
                <a:lnTo>
                  <a:pt x="0" y="462"/>
                </a:lnTo>
                <a:lnTo>
                  <a:pt x="1" y="462"/>
                </a:lnTo>
                <a:lnTo>
                  <a:pt x="2" y="462"/>
                </a:lnTo>
                <a:lnTo>
                  <a:pt x="2" y="462"/>
                </a:lnTo>
                <a:lnTo>
                  <a:pt x="2" y="462"/>
                </a:lnTo>
                <a:lnTo>
                  <a:pt x="4" y="462"/>
                </a:lnTo>
                <a:lnTo>
                  <a:pt x="124" y="462"/>
                </a:lnTo>
                <a:lnTo>
                  <a:pt x="125" y="462"/>
                </a:lnTo>
                <a:lnTo>
                  <a:pt x="127" y="462"/>
                </a:lnTo>
                <a:lnTo>
                  <a:pt x="127" y="462"/>
                </a:lnTo>
                <a:lnTo>
                  <a:pt x="127" y="462"/>
                </a:lnTo>
                <a:lnTo>
                  <a:pt x="127" y="462"/>
                </a:lnTo>
                <a:lnTo>
                  <a:pt x="128" y="461"/>
                </a:lnTo>
                <a:lnTo>
                  <a:pt x="128" y="458"/>
                </a:lnTo>
                <a:lnTo>
                  <a:pt x="128" y="458"/>
                </a:lnTo>
                <a:lnTo>
                  <a:pt x="128" y="5"/>
                </a:lnTo>
                <a:lnTo>
                  <a:pt x="128" y="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70480" y="3201840"/>
            <a:ext cx="203040" cy="733680"/>
          </a:xfrm>
          <a:custGeom>
            <a:avLst/>
            <a:gdLst/>
            <a:ahLst/>
            <a:rect l="l" t="t" r="r" b="b"/>
            <a:pathLst>
              <a:path w="128" h="462">
                <a:moveTo>
                  <a:pt x="128" y="5"/>
                </a:moveTo>
                <a:lnTo>
                  <a:pt x="128" y="4"/>
                </a:lnTo>
                <a:lnTo>
                  <a:pt x="128" y="4"/>
                </a:lnTo>
                <a:lnTo>
                  <a:pt x="127" y="3"/>
                </a:lnTo>
                <a:lnTo>
                  <a:pt x="127" y="3"/>
                </a:lnTo>
                <a:lnTo>
                  <a:pt x="127" y="3"/>
                </a:lnTo>
                <a:lnTo>
                  <a:pt x="127" y="0"/>
                </a:lnTo>
                <a:lnTo>
                  <a:pt x="125" y="0"/>
                </a:lnTo>
                <a:lnTo>
                  <a:pt x="12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1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458"/>
                </a:lnTo>
                <a:lnTo>
                  <a:pt x="0" y="458"/>
                </a:lnTo>
                <a:lnTo>
                  <a:pt x="0" y="461"/>
                </a:lnTo>
                <a:lnTo>
                  <a:pt x="0" y="462"/>
                </a:lnTo>
                <a:lnTo>
                  <a:pt x="1" y="462"/>
                </a:lnTo>
                <a:lnTo>
                  <a:pt x="2" y="462"/>
                </a:lnTo>
                <a:lnTo>
                  <a:pt x="2" y="462"/>
                </a:lnTo>
                <a:lnTo>
                  <a:pt x="2" y="462"/>
                </a:lnTo>
                <a:lnTo>
                  <a:pt x="4" y="462"/>
                </a:lnTo>
                <a:lnTo>
                  <a:pt x="124" y="462"/>
                </a:lnTo>
                <a:lnTo>
                  <a:pt x="125" y="462"/>
                </a:lnTo>
                <a:lnTo>
                  <a:pt x="127" y="462"/>
                </a:lnTo>
                <a:lnTo>
                  <a:pt x="127" y="462"/>
                </a:lnTo>
                <a:lnTo>
                  <a:pt x="127" y="462"/>
                </a:lnTo>
                <a:lnTo>
                  <a:pt x="127" y="462"/>
                </a:lnTo>
                <a:lnTo>
                  <a:pt x="128" y="461"/>
                </a:lnTo>
                <a:lnTo>
                  <a:pt x="128" y="458"/>
                </a:lnTo>
                <a:lnTo>
                  <a:pt x="128" y="458"/>
                </a:lnTo>
                <a:lnTo>
                  <a:pt x="128" y="5"/>
                </a:lnTo>
                <a:lnTo>
                  <a:pt x="128" y="5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70480" y="3201840"/>
            <a:ext cx="203040" cy="733680"/>
          </a:xfrm>
          <a:custGeom>
            <a:avLst/>
            <a:gdLst/>
            <a:ahLst/>
            <a:rect l="l" t="t" r="r" b="b"/>
            <a:pathLst>
              <a:path w="128" h="462">
                <a:moveTo>
                  <a:pt x="128" y="5"/>
                </a:moveTo>
                <a:lnTo>
                  <a:pt x="128" y="4"/>
                </a:lnTo>
                <a:lnTo>
                  <a:pt x="128" y="4"/>
                </a:lnTo>
                <a:lnTo>
                  <a:pt x="127" y="3"/>
                </a:lnTo>
                <a:lnTo>
                  <a:pt x="127" y="3"/>
                </a:lnTo>
                <a:lnTo>
                  <a:pt x="127" y="3"/>
                </a:lnTo>
                <a:lnTo>
                  <a:pt x="127" y="0"/>
                </a:lnTo>
                <a:lnTo>
                  <a:pt x="125" y="0"/>
                </a:lnTo>
                <a:lnTo>
                  <a:pt x="12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1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458"/>
                </a:lnTo>
                <a:lnTo>
                  <a:pt x="0" y="458"/>
                </a:lnTo>
                <a:lnTo>
                  <a:pt x="0" y="461"/>
                </a:lnTo>
                <a:lnTo>
                  <a:pt x="0" y="462"/>
                </a:lnTo>
                <a:lnTo>
                  <a:pt x="1" y="462"/>
                </a:lnTo>
                <a:lnTo>
                  <a:pt x="2" y="462"/>
                </a:lnTo>
                <a:lnTo>
                  <a:pt x="2" y="462"/>
                </a:lnTo>
                <a:lnTo>
                  <a:pt x="2" y="462"/>
                </a:lnTo>
                <a:lnTo>
                  <a:pt x="4" y="462"/>
                </a:lnTo>
                <a:lnTo>
                  <a:pt x="124" y="462"/>
                </a:lnTo>
                <a:lnTo>
                  <a:pt x="125" y="462"/>
                </a:lnTo>
                <a:lnTo>
                  <a:pt x="127" y="462"/>
                </a:lnTo>
                <a:lnTo>
                  <a:pt x="127" y="462"/>
                </a:lnTo>
                <a:lnTo>
                  <a:pt x="127" y="462"/>
                </a:lnTo>
                <a:lnTo>
                  <a:pt x="127" y="462"/>
                </a:lnTo>
                <a:lnTo>
                  <a:pt x="128" y="461"/>
                </a:lnTo>
                <a:lnTo>
                  <a:pt x="128" y="458"/>
                </a:lnTo>
                <a:lnTo>
                  <a:pt x="128" y="458"/>
                </a:lnTo>
                <a:lnTo>
                  <a:pt x="128" y="5"/>
                </a:lnTo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81640" y="3213000"/>
            <a:ext cx="180720" cy="95400"/>
          </a:xfrm>
          <a:custGeom>
            <a:avLst/>
            <a:gdLst/>
            <a:ahLst/>
            <a:rect l="l" t="t" r="r" b="b"/>
            <a:pathLst>
              <a:path w="114" h="60">
                <a:moveTo>
                  <a:pt x="114" y="0"/>
                </a:moveTo>
                <a:lnTo>
                  <a:pt x="0" y="0"/>
                </a:lnTo>
                <a:lnTo>
                  <a:pt x="0" y="60"/>
                </a:lnTo>
                <a:lnTo>
                  <a:pt x="114" y="60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81640" y="3213000"/>
            <a:ext cx="180720" cy="95400"/>
          </a:xfrm>
          <a:custGeom>
            <a:avLst/>
            <a:gdLst/>
            <a:ahLst/>
            <a:rect l="l" t="t" r="r" b="b"/>
            <a:pathLst>
              <a:path w="114" h="60">
                <a:moveTo>
                  <a:pt x="114" y="0"/>
                </a:moveTo>
                <a:lnTo>
                  <a:pt x="0" y="0"/>
                </a:lnTo>
                <a:lnTo>
                  <a:pt x="0" y="60"/>
                </a:lnTo>
                <a:lnTo>
                  <a:pt x="114" y="60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81640" y="3213000"/>
            <a:ext cx="180720" cy="9540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00720" y="3232080"/>
            <a:ext cx="142560" cy="57240"/>
          </a:xfrm>
          <a:custGeom>
            <a:avLst/>
            <a:gdLst/>
            <a:ahLst/>
            <a:rect l="l" t="t" r="r" b="b"/>
            <a:pathLst>
              <a:path w="90" h="36">
                <a:moveTo>
                  <a:pt x="90" y="0"/>
                </a:moveTo>
                <a:lnTo>
                  <a:pt x="0" y="0"/>
                </a:lnTo>
                <a:lnTo>
                  <a:pt x="0" y="36"/>
                </a:lnTo>
                <a:lnTo>
                  <a:pt x="90" y="3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00720" y="3232080"/>
            <a:ext cx="142560" cy="57240"/>
          </a:xfrm>
          <a:custGeom>
            <a:avLst/>
            <a:gdLst/>
            <a:ahLst/>
            <a:rect l="l" t="t" r="r" b="b"/>
            <a:pathLst>
              <a:path w="90" h="36">
                <a:moveTo>
                  <a:pt x="90" y="0"/>
                </a:moveTo>
                <a:lnTo>
                  <a:pt x="0" y="0"/>
                </a:lnTo>
                <a:lnTo>
                  <a:pt x="0" y="36"/>
                </a:lnTo>
                <a:lnTo>
                  <a:pt x="90" y="3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00720" y="3232080"/>
            <a:ext cx="142560" cy="5724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73720" y="3349800"/>
            <a:ext cx="19980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81640" y="3363840"/>
            <a:ext cx="180720" cy="27000"/>
          </a:xfrm>
          <a:custGeom>
            <a:avLst/>
            <a:gdLst/>
            <a:ahLst/>
            <a:rect l="l" t="t" r="r" b="b"/>
            <a:pathLst>
              <a:path w="114" h="17">
                <a:moveTo>
                  <a:pt x="114" y="0"/>
                </a:moveTo>
                <a:lnTo>
                  <a:pt x="0" y="0"/>
                </a:lnTo>
                <a:lnTo>
                  <a:pt x="0" y="17"/>
                </a:lnTo>
                <a:lnTo>
                  <a:pt x="114" y="17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81640" y="3363840"/>
            <a:ext cx="180720" cy="27000"/>
          </a:xfrm>
          <a:custGeom>
            <a:avLst/>
            <a:gdLst/>
            <a:ahLst/>
            <a:rect l="l" t="t" r="r" b="b"/>
            <a:pathLst>
              <a:path w="114" h="17">
                <a:moveTo>
                  <a:pt x="114" y="0"/>
                </a:moveTo>
                <a:lnTo>
                  <a:pt x="0" y="0"/>
                </a:lnTo>
                <a:lnTo>
                  <a:pt x="0" y="17"/>
                </a:lnTo>
                <a:lnTo>
                  <a:pt x="114" y="17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81640" y="3363840"/>
            <a:ext cx="180720" cy="2700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73720" y="3416400"/>
            <a:ext cx="19980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43560" y="3448080"/>
            <a:ext cx="55440" cy="11160"/>
          </a:xfrm>
          <a:custGeom>
            <a:avLst/>
            <a:gdLst/>
            <a:ahLst/>
            <a:rect l="l" t="t" r="r" b="b"/>
            <a:pathLst>
              <a:path w="35" h="7">
                <a:moveTo>
                  <a:pt x="0" y="7"/>
                </a:moveTo>
                <a:lnTo>
                  <a:pt x="1" y="0"/>
                </a:lnTo>
                <a:lnTo>
                  <a:pt x="33" y="0"/>
                </a:lnTo>
                <a:lnTo>
                  <a:pt x="35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43560" y="3448080"/>
            <a:ext cx="55440" cy="11160"/>
          </a:xfrm>
          <a:custGeom>
            <a:avLst/>
            <a:gdLst/>
            <a:ahLst/>
            <a:rect l="l" t="t" r="r" b="b"/>
            <a:pathLst>
              <a:path w="35" h="7">
                <a:moveTo>
                  <a:pt x="0" y="7"/>
                </a:moveTo>
                <a:lnTo>
                  <a:pt x="1" y="0"/>
                </a:lnTo>
                <a:lnTo>
                  <a:pt x="33" y="0"/>
                </a:lnTo>
                <a:lnTo>
                  <a:pt x="35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43560" y="3448080"/>
            <a:ext cx="55440" cy="11160"/>
          </a:xfrm>
          <a:custGeom>
            <a:avLst/>
            <a:gdLst/>
            <a:ahLst/>
            <a:rect l="l" t="t" r="r" b="b"/>
            <a:pathLst>
              <a:path w="35" h="7">
                <a:moveTo>
                  <a:pt x="0" y="7"/>
                </a:moveTo>
                <a:lnTo>
                  <a:pt x="1" y="0"/>
                </a:lnTo>
                <a:lnTo>
                  <a:pt x="33" y="0"/>
                </a:lnTo>
                <a:lnTo>
                  <a:pt x="35" y="7"/>
                </a:lnTo>
                <a:lnTo>
                  <a:pt x="0" y="7"/>
                </a:lnTo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43560" y="3476520"/>
            <a:ext cx="5544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0"/>
                </a:moveTo>
                <a:lnTo>
                  <a:pt x="1" y="9"/>
                </a:lnTo>
                <a:lnTo>
                  <a:pt x="33" y="9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43560" y="3476520"/>
            <a:ext cx="5544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0"/>
                </a:moveTo>
                <a:lnTo>
                  <a:pt x="1" y="9"/>
                </a:lnTo>
                <a:lnTo>
                  <a:pt x="33" y="9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43560" y="3476520"/>
            <a:ext cx="55440" cy="14400"/>
          </a:xfrm>
          <a:custGeom>
            <a:avLst/>
            <a:gdLst/>
            <a:ahLst/>
            <a:rect l="l" t="t" r="r" b="b"/>
            <a:pathLst>
              <a:path w="35" h="9">
                <a:moveTo>
                  <a:pt x="0" y="0"/>
                </a:moveTo>
                <a:lnTo>
                  <a:pt x="1" y="9"/>
                </a:lnTo>
                <a:lnTo>
                  <a:pt x="33" y="9"/>
                </a:lnTo>
                <a:lnTo>
                  <a:pt x="35" y="0"/>
                </a:lnTo>
                <a:lnTo>
                  <a:pt x="0" y="0"/>
                </a:lnTo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21240" y="3481560"/>
            <a:ext cx="1260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8" y="0"/>
                </a:moveTo>
                <a:lnTo>
                  <a:pt x="0" y="0"/>
                </a:lnTo>
                <a:lnTo>
                  <a:pt x="0" y="3"/>
                </a:lnTo>
                <a:lnTo>
                  <a:pt x="8" y="3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21240" y="3481560"/>
            <a:ext cx="1260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8" y="0"/>
                </a:moveTo>
                <a:lnTo>
                  <a:pt x="0" y="0"/>
                </a:lnTo>
                <a:lnTo>
                  <a:pt x="0" y="3"/>
                </a:lnTo>
                <a:lnTo>
                  <a:pt x="8" y="3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21240" y="3481560"/>
            <a:ext cx="12600" cy="468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3400" y="34815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0"/>
                </a:moveTo>
                <a:lnTo>
                  <a:pt x="0" y="0"/>
                </a:lnTo>
                <a:lnTo>
                  <a:pt x="0" y="6"/>
                </a:lnTo>
                <a:lnTo>
                  <a:pt x="10" y="6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13400" y="34815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0"/>
                </a:moveTo>
                <a:lnTo>
                  <a:pt x="0" y="0"/>
                </a:lnTo>
                <a:lnTo>
                  <a:pt x="0" y="6"/>
                </a:lnTo>
                <a:lnTo>
                  <a:pt x="10" y="6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13400" y="3481560"/>
            <a:ext cx="15840" cy="936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73720" y="3510000"/>
            <a:ext cx="19980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06920" y="3519360"/>
            <a:ext cx="36360" cy="57240"/>
          </a:xfrm>
          <a:custGeom>
            <a:avLst/>
            <a:gdLst/>
            <a:ahLst/>
            <a:rect l="l" t="t" r="r" b="b"/>
            <a:pathLst>
              <a:path w="23" h="36">
                <a:moveTo>
                  <a:pt x="23" y="0"/>
                </a:moveTo>
                <a:lnTo>
                  <a:pt x="0" y="0"/>
                </a:lnTo>
                <a:lnTo>
                  <a:pt x="0" y="36"/>
                </a:lnTo>
                <a:lnTo>
                  <a:pt x="23" y="36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06920" y="3519360"/>
            <a:ext cx="36360" cy="57240"/>
          </a:xfrm>
          <a:custGeom>
            <a:avLst/>
            <a:gdLst/>
            <a:ahLst/>
            <a:rect l="l" t="t" r="r" b="b"/>
            <a:pathLst>
              <a:path w="23" h="36">
                <a:moveTo>
                  <a:pt x="23" y="0"/>
                </a:moveTo>
                <a:lnTo>
                  <a:pt x="0" y="0"/>
                </a:lnTo>
                <a:lnTo>
                  <a:pt x="0" y="36"/>
                </a:lnTo>
                <a:lnTo>
                  <a:pt x="23" y="36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06920" y="3519360"/>
            <a:ext cx="36360" cy="5724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83160" y="352584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0"/>
                </a:moveTo>
                <a:lnTo>
                  <a:pt x="0" y="0"/>
                </a:lnTo>
                <a:lnTo>
                  <a:pt x="0" y="6"/>
                </a:lnTo>
                <a:lnTo>
                  <a:pt x="7" y="6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83160" y="352584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0"/>
                </a:moveTo>
                <a:lnTo>
                  <a:pt x="0" y="0"/>
                </a:lnTo>
                <a:lnTo>
                  <a:pt x="0" y="6"/>
                </a:lnTo>
                <a:lnTo>
                  <a:pt x="7" y="6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83160" y="3525840"/>
            <a:ext cx="11160" cy="936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70480" y="3525840"/>
            <a:ext cx="201600" cy="50760"/>
          </a:xfrm>
          <a:custGeom>
            <a:avLst/>
            <a:gdLst/>
            <a:ahLst/>
            <a:rect l="l" t="t" r="r" b="b"/>
            <a:pathLst>
              <a:path w="127" h="32">
                <a:moveTo>
                  <a:pt x="0" y="32"/>
                </a:moveTo>
                <a:lnTo>
                  <a:pt x="1" y="32"/>
                </a:lnTo>
                <a:lnTo>
                  <a:pt x="1" y="32"/>
                </a:lnTo>
                <a:lnTo>
                  <a:pt x="1" y="32"/>
                </a:lnTo>
                <a:lnTo>
                  <a:pt x="2" y="32"/>
                </a:lnTo>
                <a:lnTo>
                  <a:pt x="2" y="32"/>
                </a:lnTo>
                <a:lnTo>
                  <a:pt x="2" y="32"/>
                </a:lnTo>
                <a:lnTo>
                  <a:pt x="4" y="32"/>
                </a:lnTo>
                <a:lnTo>
                  <a:pt x="5" y="32"/>
                </a:lnTo>
                <a:lnTo>
                  <a:pt x="5" y="32"/>
                </a:lnTo>
                <a:lnTo>
                  <a:pt x="5" y="32"/>
                </a:lnTo>
                <a:lnTo>
                  <a:pt x="7" y="32"/>
                </a:lnTo>
                <a:lnTo>
                  <a:pt x="7" y="32"/>
                </a:lnTo>
                <a:lnTo>
                  <a:pt x="8" y="32"/>
                </a:lnTo>
                <a:lnTo>
                  <a:pt x="9" y="32"/>
                </a:lnTo>
                <a:lnTo>
                  <a:pt x="11" y="32"/>
                </a:lnTo>
                <a:lnTo>
                  <a:pt x="12" y="32"/>
                </a:lnTo>
                <a:lnTo>
                  <a:pt x="12" y="32"/>
                </a:lnTo>
                <a:lnTo>
                  <a:pt x="13" y="32"/>
                </a:lnTo>
                <a:lnTo>
                  <a:pt x="15" y="32"/>
                </a:lnTo>
                <a:lnTo>
                  <a:pt x="15" y="32"/>
                </a:lnTo>
                <a:lnTo>
                  <a:pt x="15" y="32"/>
                </a:lnTo>
                <a:lnTo>
                  <a:pt x="16" y="32"/>
                </a:lnTo>
                <a:lnTo>
                  <a:pt x="16" y="32"/>
                </a:lnTo>
                <a:lnTo>
                  <a:pt x="17" y="32"/>
                </a:lnTo>
                <a:lnTo>
                  <a:pt x="19" y="32"/>
                </a:lnTo>
                <a:lnTo>
                  <a:pt x="19" y="32"/>
                </a:lnTo>
                <a:lnTo>
                  <a:pt x="19" y="32"/>
                </a:lnTo>
                <a:lnTo>
                  <a:pt x="19" y="32"/>
                </a:lnTo>
                <a:lnTo>
                  <a:pt x="19" y="32"/>
                </a:lnTo>
                <a:lnTo>
                  <a:pt x="20" y="32"/>
                </a:lnTo>
                <a:lnTo>
                  <a:pt x="20" y="32"/>
                </a:lnTo>
                <a:lnTo>
                  <a:pt x="20" y="32"/>
                </a:lnTo>
                <a:lnTo>
                  <a:pt x="20" y="29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7"/>
                </a:lnTo>
                <a:lnTo>
                  <a:pt x="20" y="27"/>
                </a:lnTo>
                <a:lnTo>
                  <a:pt x="20" y="25"/>
                </a:lnTo>
                <a:lnTo>
                  <a:pt x="20" y="25"/>
                </a:lnTo>
                <a:lnTo>
                  <a:pt x="20" y="25"/>
                </a:lnTo>
                <a:lnTo>
                  <a:pt x="20" y="25"/>
                </a:lnTo>
                <a:lnTo>
                  <a:pt x="20" y="25"/>
                </a:lnTo>
                <a:lnTo>
                  <a:pt x="20" y="24"/>
                </a:lnTo>
                <a:lnTo>
                  <a:pt x="20" y="24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19"/>
                </a:lnTo>
                <a:lnTo>
                  <a:pt x="20" y="19"/>
                </a:lnTo>
                <a:lnTo>
                  <a:pt x="20" y="17"/>
                </a:lnTo>
                <a:lnTo>
                  <a:pt x="20" y="17"/>
                </a:lnTo>
                <a:lnTo>
                  <a:pt x="20" y="17"/>
                </a:lnTo>
                <a:lnTo>
                  <a:pt x="20" y="17"/>
                </a:lnTo>
                <a:lnTo>
                  <a:pt x="20" y="16"/>
                </a:lnTo>
                <a:lnTo>
                  <a:pt x="20" y="15"/>
                </a:lnTo>
                <a:lnTo>
                  <a:pt x="20" y="15"/>
                </a:lnTo>
                <a:lnTo>
                  <a:pt x="20" y="13"/>
                </a:lnTo>
                <a:lnTo>
                  <a:pt x="20" y="11"/>
                </a:lnTo>
                <a:lnTo>
                  <a:pt x="20" y="11"/>
                </a:lnTo>
                <a:lnTo>
                  <a:pt x="20" y="10"/>
                </a:lnTo>
                <a:lnTo>
                  <a:pt x="21" y="10"/>
                </a:lnTo>
                <a:lnTo>
                  <a:pt x="21" y="10"/>
                </a:lnTo>
                <a:lnTo>
                  <a:pt x="21" y="8"/>
                </a:lnTo>
                <a:lnTo>
                  <a:pt x="21" y="8"/>
                </a:lnTo>
                <a:lnTo>
                  <a:pt x="21" y="7"/>
                </a:lnTo>
                <a:lnTo>
                  <a:pt x="21" y="7"/>
                </a:lnTo>
                <a:lnTo>
                  <a:pt x="23" y="7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4"/>
                </a:lnTo>
                <a:lnTo>
                  <a:pt x="24" y="4"/>
                </a:lnTo>
                <a:lnTo>
                  <a:pt x="25" y="4"/>
                </a:lnTo>
                <a:lnTo>
                  <a:pt x="25" y="4"/>
                </a:lnTo>
                <a:lnTo>
                  <a:pt x="25" y="4"/>
                </a:lnTo>
                <a:lnTo>
                  <a:pt x="27" y="3"/>
                </a:lnTo>
                <a:lnTo>
                  <a:pt x="28" y="3"/>
                </a:lnTo>
                <a:lnTo>
                  <a:pt x="28" y="3"/>
                </a:lnTo>
                <a:lnTo>
                  <a:pt x="30" y="3"/>
                </a:lnTo>
                <a:lnTo>
                  <a:pt x="30" y="3"/>
                </a:lnTo>
                <a:lnTo>
                  <a:pt x="31" y="0"/>
                </a:lnTo>
                <a:lnTo>
                  <a:pt x="31" y="0"/>
                </a:lnTo>
                <a:lnTo>
                  <a:pt x="32" y="0"/>
                </a:lnTo>
                <a:lnTo>
                  <a:pt x="34" y="0"/>
                </a:lnTo>
                <a:lnTo>
                  <a:pt x="34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6" y="0"/>
                </a:lnTo>
                <a:lnTo>
                  <a:pt x="38" y="3"/>
                </a:lnTo>
                <a:lnTo>
                  <a:pt x="38" y="3"/>
                </a:lnTo>
                <a:lnTo>
                  <a:pt x="38" y="3"/>
                </a:lnTo>
                <a:lnTo>
                  <a:pt x="39" y="3"/>
                </a:lnTo>
                <a:lnTo>
                  <a:pt x="40" y="3"/>
                </a:lnTo>
                <a:lnTo>
                  <a:pt x="40" y="4"/>
                </a:lnTo>
                <a:lnTo>
                  <a:pt x="40" y="4"/>
                </a:lnTo>
                <a:lnTo>
                  <a:pt x="42" y="4"/>
                </a:lnTo>
                <a:lnTo>
                  <a:pt x="42" y="4"/>
                </a:lnTo>
                <a:lnTo>
                  <a:pt x="43" y="4"/>
                </a:lnTo>
                <a:lnTo>
                  <a:pt x="43" y="6"/>
                </a:lnTo>
                <a:lnTo>
                  <a:pt x="43" y="6"/>
                </a:lnTo>
                <a:lnTo>
                  <a:pt x="44" y="7"/>
                </a:lnTo>
                <a:lnTo>
                  <a:pt x="44" y="7"/>
                </a:lnTo>
                <a:lnTo>
                  <a:pt x="44" y="7"/>
                </a:lnTo>
                <a:lnTo>
                  <a:pt x="44" y="7"/>
                </a:lnTo>
                <a:lnTo>
                  <a:pt x="46" y="8"/>
                </a:lnTo>
                <a:lnTo>
                  <a:pt x="46" y="10"/>
                </a:lnTo>
                <a:lnTo>
                  <a:pt x="46" y="10"/>
                </a:lnTo>
                <a:lnTo>
                  <a:pt x="47" y="10"/>
                </a:lnTo>
                <a:lnTo>
                  <a:pt x="47" y="11"/>
                </a:lnTo>
                <a:lnTo>
                  <a:pt x="47" y="11"/>
                </a:lnTo>
                <a:lnTo>
                  <a:pt x="47" y="13"/>
                </a:lnTo>
                <a:lnTo>
                  <a:pt x="47" y="13"/>
                </a:lnTo>
                <a:lnTo>
                  <a:pt x="47" y="15"/>
                </a:lnTo>
                <a:lnTo>
                  <a:pt x="47" y="15"/>
                </a:lnTo>
                <a:lnTo>
                  <a:pt x="47" y="16"/>
                </a:lnTo>
                <a:lnTo>
                  <a:pt x="47" y="17"/>
                </a:lnTo>
                <a:lnTo>
                  <a:pt x="47" y="17"/>
                </a:lnTo>
                <a:lnTo>
                  <a:pt x="47" y="17"/>
                </a:lnTo>
                <a:lnTo>
                  <a:pt x="47" y="19"/>
                </a:lnTo>
                <a:lnTo>
                  <a:pt x="47" y="19"/>
                </a:lnTo>
                <a:lnTo>
                  <a:pt x="47" y="20"/>
                </a:lnTo>
                <a:lnTo>
                  <a:pt x="47" y="20"/>
                </a:lnTo>
                <a:lnTo>
                  <a:pt x="47" y="20"/>
                </a:lnTo>
                <a:lnTo>
                  <a:pt x="47" y="20"/>
                </a:lnTo>
                <a:lnTo>
                  <a:pt x="47" y="20"/>
                </a:lnTo>
                <a:lnTo>
                  <a:pt x="47" y="21"/>
                </a:lnTo>
                <a:lnTo>
                  <a:pt x="47" y="21"/>
                </a:lnTo>
                <a:lnTo>
                  <a:pt x="47" y="21"/>
                </a:lnTo>
                <a:lnTo>
                  <a:pt x="47" y="21"/>
                </a:lnTo>
                <a:lnTo>
                  <a:pt x="47" y="21"/>
                </a:lnTo>
                <a:lnTo>
                  <a:pt x="47" y="24"/>
                </a:lnTo>
                <a:lnTo>
                  <a:pt x="47" y="24"/>
                </a:lnTo>
                <a:lnTo>
                  <a:pt x="47" y="25"/>
                </a:lnTo>
                <a:lnTo>
                  <a:pt x="47" y="25"/>
                </a:lnTo>
                <a:lnTo>
                  <a:pt x="47" y="25"/>
                </a:lnTo>
                <a:lnTo>
                  <a:pt x="47" y="25"/>
                </a:lnTo>
                <a:lnTo>
                  <a:pt x="47" y="25"/>
                </a:lnTo>
                <a:lnTo>
                  <a:pt x="47" y="27"/>
                </a:lnTo>
                <a:lnTo>
                  <a:pt x="47" y="27"/>
                </a:lnTo>
                <a:lnTo>
                  <a:pt x="47" y="28"/>
                </a:lnTo>
                <a:lnTo>
                  <a:pt x="47" y="28"/>
                </a:lnTo>
                <a:lnTo>
                  <a:pt x="47" y="28"/>
                </a:lnTo>
                <a:lnTo>
                  <a:pt x="47" y="28"/>
                </a:lnTo>
                <a:lnTo>
                  <a:pt x="47" y="29"/>
                </a:lnTo>
                <a:lnTo>
                  <a:pt x="47" y="29"/>
                </a:lnTo>
                <a:lnTo>
                  <a:pt x="47" y="32"/>
                </a:lnTo>
                <a:lnTo>
                  <a:pt x="47" y="32"/>
                </a:lnTo>
                <a:lnTo>
                  <a:pt x="47" y="32"/>
                </a:lnTo>
                <a:lnTo>
                  <a:pt x="47" y="32"/>
                </a:lnTo>
                <a:lnTo>
                  <a:pt x="49" y="32"/>
                </a:lnTo>
                <a:lnTo>
                  <a:pt x="50" y="32"/>
                </a:lnTo>
                <a:lnTo>
                  <a:pt x="51" y="32"/>
                </a:lnTo>
                <a:lnTo>
                  <a:pt x="53" y="32"/>
                </a:lnTo>
                <a:lnTo>
                  <a:pt x="54" y="32"/>
                </a:lnTo>
                <a:lnTo>
                  <a:pt x="57" y="32"/>
                </a:lnTo>
                <a:lnTo>
                  <a:pt x="59" y="32"/>
                </a:lnTo>
                <a:lnTo>
                  <a:pt x="62" y="32"/>
                </a:lnTo>
                <a:lnTo>
                  <a:pt x="67" y="32"/>
                </a:lnTo>
                <a:lnTo>
                  <a:pt x="70" y="32"/>
                </a:lnTo>
                <a:lnTo>
                  <a:pt x="74" y="32"/>
                </a:lnTo>
                <a:lnTo>
                  <a:pt x="77" y="32"/>
                </a:lnTo>
                <a:lnTo>
                  <a:pt x="81" y="32"/>
                </a:lnTo>
                <a:lnTo>
                  <a:pt x="83" y="32"/>
                </a:lnTo>
                <a:lnTo>
                  <a:pt x="89" y="32"/>
                </a:lnTo>
                <a:lnTo>
                  <a:pt x="91" y="32"/>
                </a:lnTo>
                <a:lnTo>
                  <a:pt x="96" y="32"/>
                </a:lnTo>
                <a:lnTo>
                  <a:pt x="98" y="32"/>
                </a:lnTo>
                <a:lnTo>
                  <a:pt x="102" y="32"/>
                </a:lnTo>
                <a:lnTo>
                  <a:pt x="105" y="32"/>
                </a:lnTo>
                <a:lnTo>
                  <a:pt x="109" y="32"/>
                </a:lnTo>
                <a:lnTo>
                  <a:pt x="112" y="32"/>
                </a:lnTo>
                <a:lnTo>
                  <a:pt x="115" y="32"/>
                </a:lnTo>
                <a:lnTo>
                  <a:pt x="117" y="32"/>
                </a:lnTo>
                <a:lnTo>
                  <a:pt x="120" y="32"/>
                </a:lnTo>
                <a:lnTo>
                  <a:pt x="121" y="32"/>
                </a:lnTo>
                <a:lnTo>
                  <a:pt x="124" y="32"/>
                </a:lnTo>
                <a:lnTo>
                  <a:pt x="125" y="32"/>
                </a:lnTo>
                <a:lnTo>
                  <a:pt x="127" y="32"/>
                </a:lnTo>
                <a:lnTo>
                  <a:pt x="127" y="32"/>
                </a:lnTo>
                <a:lnTo>
                  <a:pt x="127" y="32"/>
                </a:lnTo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06840" y="353700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6"/>
                </a:moveTo>
                <a:lnTo>
                  <a:pt x="9" y="3"/>
                </a:lnTo>
                <a:lnTo>
                  <a:pt x="8" y="1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3" y="10"/>
                </a:lnTo>
                <a:lnTo>
                  <a:pt x="5" y="10"/>
                </a:lnTo>
                <a:lnTo>
                  <a:pt x="6" y="10"/>
                </a:lnTo>
                <a:lnTo>
                  <a:pt x="8" y="9"/>
                </a:lnTo>
                <a:lnTo>
                  <a:pt x="9" y="7"/>
                </a:lnTo>
                <a:lnTo>
                  <a:pt x="9" y="6"/>
                </a:lnTo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24480" y="356544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0560" y="3510000"/>
            <a:ext cx="1440" cy="103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73720" y="3616200"/>
            <a:ext cx="19980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70480" y="3638520"/>
            <a:ext cx="201600" cy="44640"/>
          </a:xfrm>
          <a:custGeom>
            <a:avLst/>
            <a:gdLst/>
            <a:ahLst/>
            <a:rect l="l" t="t" r="r" b="b"/>
            <a:pathLst>
              <a:path w="127" h="28">
                <a:moveTo>
                  <a:pt x="0" y="28"/>
                </a:moveTo>
                <a:lnTo>
                  <a:pt x="1" y="28"/>
                </a:lnTo>
                <a:lnTo>
                  <a:pt x="1" y="28"/>
                </a:lnTo>
                <a:lnTo>
                  <a:pt x="1" y="28"/>
                </a:lnTo>
                <a:lnTo>
                  <a:pt x="2" y="28"/>
                </a:lnTo>
                <a:lnTo>
                  <a:pt x="2" y="28"/>
                </a:lnTo>
                <a:lnTo>
                  <a:pt x="2" y="28"/>
                </a:lnTo>
                <a:lnTo>
                  <a:pt x="4" y="28"/>
                </a:lnTo>
                <a:lnTo>
                  <a:pt x="5" y="28"/>
                </a:lnTo>
                <a:lnTo>
                  <a:pt x="5" y="28"/>
                </a:lnTo>
                <a:lnTo>
                  <a:pt x="5" y="28"/>
                </a:lnTo>
                <a:lnTo>
                  <a:pt x="7" y="28"/>
                </a:lnTo>
                <a:lnTo>
                  <a:pt x="7" y="28"/>
                </a:lnTo>
                <a:lnTo>
                  <a:pt x="8" y="28"/>
                </a:lnTo>
                <a:lnTo>
                  <a:pt x="9" y="28"/>
                </a:lnTo>
                <a:lnTo>
                  <a:pt x="11" y="28"/>
                </a:lnTo>
                <a:lnTo>
                  <a:pt x="12" y="28"/>
                </a:lnTo>
                <a:lnTo>
                  <a:pt x="12" y="28"/>
                </a:lnTo>
                <a:lnTo>
                  <a:pt x="13" y="28"/>
                </a:lnTo>
                <a:lnTo>
                  <a:pt x="15" y="28"/>
                </a:lnTo>
                <a:lnTo>
                  <a:pt x="15" y="28"/>
                </a:lnTo>
                <a:lnTo>
                  <a:pt x="15" y="28"/>
                </a:lnTo>
                <a:lnTo>
                  <a:pt x="16" y="28"/>
                </a:lnTo>
                <a:lnTo>
                  <a:pt x="16" y="28"/>
                </a:lnTo>
                <a:lnTo>
                  <a:pt x="17" y="28"/>
                </a:lnTo>
                <a:lnTo>
                  <a:pt x="19" y="28"/>
                </a:lnTo>
                <a:lnTo>
                  <a:pt x="19" y="28"/>
                </a:lnTo>
                <a:lnTo>
                  <a:pt x="19" y="28"/>
                </a:lnTo>
                <a:lnTo>
                  <a:pt x="19" y="28"/>
                </a:lnTo>
                <a:lnTo>
                  <a:pt x="19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6"/>
                </a:lnTo>
                <a:lnTo>
                  <a:pt x="20" y="26"/>
                </a:lnTo>
                <a:lnTo>
                  <a:pt x="20" y="25"/>
                </a:lnTo>
                <a:lnTo>
                  <a:pt x="20" y="25"/>
                </a:lnTo>
                <a:lnTo>
                  <a:pt x="20" y="25"/>
                </a:lnTo>
                <a:lnTo>
                  <a:pt x="20" y="25"/>
                </a:lnTo>
                <a:lnTo>
                  <a:pt x="20" y="24"/>
                </a:lnTo>
                <a:lnTo>
                  <a:pt x="20" y="24"/>
                </a:lnTo>
                <a:lnTo>
                  <a:pt x="20" y="24"/>
                </a:lnTo>
                <a:lnTo>
                  <a:pt x="20" y="22"/>
                </a:lnTo>
                <a:lnTo>
                  <a:pt x="20" y="22"/>
                </a:lnTo>
                <a:lnTo>
                  <a:pt x="20" y="22"/>
                </a:lnTo>
                <a:lnTo>
                  <a:pt x="20" y="22"/>
                </a:lnTo>
                <a:lnTo>
                  <a:pt x="20" y="22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17"/>
                </a:lnTo>
                <a:lnTo>
                  <a:pt x="20" y="17"/>
                </a:lnTo>
                <a:lnTo>
                  <a:pt x="20" y="17"/>
                </a:lnTo>
                <a:lnTo>
                  <a:pt x="20" y="17"/>
                </a:lnTo>
                <a:lnTo>
                  <a:pt x="20" y="16"/>
                </a:lnTo>
                <a:lnTo>
                  <a:pt x="20" y="16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3"/>
                </a:lnTo>
                <a:lnTo>
                  <a:pt x="20" y="12"/>
                </a:lnTo>
                <a:lnTo>
                  <a:pt x="20" y="12"/>
                </a:lnTo>
                <a:lnTo>
                  <a:pt x="20" y="10"/>
                </a:lnTo>
                <a:lnTo>
                  <a:pt x="20" y="10"/>
                </a:lnTo>
                <a:lnTo>
                  <a:pt x="20" y="10"/>
                </a:lnTo>
                <a:lnTo>
                  <a:pt x="20" y="8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5"/>
                </a:lnTo>
                <a:lnTo>
                  <a:pt x="21" y="4"/>
                </a:lnTo>
                <a:lnTo>
                  <a:pt x="21" y="4"/>
                </a:lnTo>
                <a:lnTo>
                  <a:pt x="23" y="4"/>
                </a:lnTo>
                <a:lnTo>
                  <a:pt x="23" y="4"/>
                </a:lnTo>
                <a:lnTo>
                  <a:pt x="24" y="3"/>
                </a:lnTo>
                <a:lnTo>
                  <a:pt x="24" y="3"/>
                </a:lnTo>
                <a:lnTo>
                  <a:pt x="24" y="1"/>
                </a:lnTo>
                <a:lnTo>
                  <a:pt x="24" y="1"/>
                </a:lnTo>
                <a:lnTo>
                  <a:pt x="25" y="1"/>
                </a:lnTo>
                <a:lnTo>
                  <a:pt x="25" y="1"/>
                </a:lnTo>
                <a:lnTo>
                  <a:pt x="25" y="1"/>
                </a:lnTo>
                <a:lnTo>
                  <a:pt x="27" y="1"/>
                </a:lnTo>
                <a:lnTo>
                  <a:pt x="28" y="0"/>
                </a:lnTo>
                <a:lnTo>
                  <a:pt x="28" y="0"/>
                </a:lnTo>
                <a:lnTo>
                  <a:pt x="30" y="0"/>
                </a:lnTo>
                <a:lnTo>
                  <a:pt x="30" y="0"/>
                </a:lnTo>
                <a:lnTo>
                  <a:pt x="31" y="0"/>
                </a:lnTo>
                <a:lnTo>
                  <a:pt x="31" y="0"/>
                </a:lnTo>
                <a:lnTo>
                  <a:pt x="32" y="0"/>
                </a:lnTo>
                <a:lnTo>
                  <a:pt x="34" y="0"/>
                </a:lnTo>
                <a:lnTo>
                  <a:pt x="34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6" y="0"/>
                </a:lnTo>
                <a:lnTo>
                  <a:pt x="38" y="0"/>
                </a:lnTo>
                <a:lnTo>
                  <a:pt x="38" y="0"/>
                </a:lnTo>
                <a:lnTo>
                  <a:pt x="38" y="0"/>
                </a:lnTo>
                <a:lnTo>
                  <a:pt x="39" y="0"/>
                </a:lnTo>
                <a:lnTo>
                  <a:pt x="40" y="1"/>
                </a:lnTo>
                <a:lnTo>
                  <a:pt x="40" y="1"/>
                </a:lnTo>
                <a:lnTo>
                  <a:pt x="40" y="1"/>
                </a:lnTo>
                <a:lnTo>
                  <a:pt x="42" y="1"/>
                </a:lnTo>
                <a:lnTo>
                  <a:pt x="42" y="1"/>
                </a:lnTo>
                <a:lnTo>
                  <a:pt x="43" y="1"/>
                </a:lnTo>
                <a:lnTo>
                  <a:pt x="43" y="3"/>
                </a:lnTo>
                <a:lnTo>
                  <a:pt x="43" y="3"/>
                </a:lnTo>
                <a:lnTo>
                  <a:pt x="44" y="4"/>
                </a:lnTo>
                <a:lnTo>
                  <a:pt x="44" y="4"/>
                </a:lnTo>
                <a:lnTo>
                  <a:pt x="44" y="4"/>
                </a:lnTo>
                <a:lnTo>
                  <a:pt x="44" y="4"/>
                </a:lnTo>
                <a:lnTo>
                  <a:pt x="46" y="5"/>
                </a:lnTo>
                <a:lnTo>
                  <a:pt x="46" y="7"/>
                </a:lnTo>
                <a:lnTo>
                  <a:pt x="46" y="7"/>
                </a:lnTo>
                <a:lnTo>
                  <a:pt x="47" y="7"/>
                </a:lnTo>
                <a:lnTo>
                  <a:pt x="47" y="8"/>
                </a:lnTo>
                <a:lnTo>
                  <a:pt x="47" y="10"/>
                </a:lnTo>
                <a:lnTo>
                  <a:pt x="47" y="10"/>
                </a:lnTo>
                <a:lnTo>
                  <a:pt x="47" y="12"/>
                </a:lnTo>
                <a:lnTo>
                  <a:pt x="47" y="12"/>
                </a:lnTo>
                <a:lnTo>
                  <a:pt x="47" y="13"/>
                </a:lnTo>
                <a:lnTo>
                  <a:pt x="47" y="14"/>
                </a:lnTo>
                <a:lnTo>
                  <a:pt x="47" y="14"/>
                </a:lnTo>
                <a:lnTo>
                  <a:pt x="47" y="14"/>
                </a:lnTo>
                <a:lnTo>
                  <a:pt x="47" y="16"/>
                </a:lnTo>
                <a:lnTo>
                  <a:pt x="47" y="16"/>
                </a:lnTo>
                <a:lnTo>
                  <a:pt x="47" y="17"/>
                </a:lnTo>
                <a:lnTo>
                  <a:pt x="47" y="17"/>
                </a:lnTo>
                <a:lnTo>
                  <a:pt x="47" y="17"/>
                </a:lnTo>
                <a:lnTo>
                  <a:pt x="47" y="17"/>
                </a:lnTo>
                <a:lnTo>
                  <a:pt x="47" y="17"/>
                </a:lnTo>
                <a:lnTo>
                  <a:pt x="47" y="20"/>
                </a:lnTo>
                <a:lnTo>
                  <a:pt x="47" y="20"/>
                </a:lnTo>
                <a:lnTo>
                  <a:pt x="47" y="21"/>
                </a:lnTo>
                <a:lnTo>
                  <a:pt x="47" y="21"/>
                </a:lnTo>
                <a:lnTo>
                  <a:pt x="47" y="21"/>
                </a:lnTo>
                <a:lnTo>
                  <a:pt x="47" y="21"/>
                </a:lnTo>
                <a:lnTo>
                  <a:pt x="47" y="21"/>
                </a:lnTo>
                <a:lnTo>
                  <a:pt x="47" y="22"/>
                </a:lnTo>
                <a:lnTo>
                  <a:pt x="47" y="22"/>
                </a:lnTo>
                <a:lnTo>
                  <a:pt x="47" y="22"/>
                </a:lnTo>
                <a:lnTo>
                  <a:pt x="47" y="22"/>
                </a:lnTo>
                <a:lnTo>
                  <a:pt x="47" y="22"/>
                </a:lnTo>
                <a:lnTo>
                  <a:pt x="47" y="24"/>
                </a:lnTo>
                <a:lnTo>
                  <a:pt x="47" y="24"/>
                </a:lnTo>
                <a:lnTo>
                  <a:pt x="47" y="25"/>
                </a:lnTo>
                <a:lnTo>
                  <a:pt x="47" y="25"/>
                </a:lnTo>
                <a:lnTo>
                  <a:pt x="47" y="25"/>
                </a:lnTo>
                <a:lnTo>
                  <a:pt x="47" y="25"/>
                </a:lnTo>
                <a:lnTo>
                  <a:pt x="47" y="25"/>
                </a:lnTo>
                <a:lnTo>
                  <a:pt x="47" y="26"/>
                </a:lnTo>
                <a:lnTo>
                  <a:pt x="47" y="26"/>
                </a:lnTo>
                <a:lnTo>
                  <a:pt x="47" y="28"/>
                </a:lnTo>
                <a:lnTo>
                  <a:pt x="47" y="28"/>
                </a:lnTo>
                <a:lnTo>
                  <a:pt x="47" y="28"/>
                </a:lnTo>
                <a:lnTo>
                  <a:pt x="47" y="28"/>
                </a:lnTo>
                <a:lnTo>
                  <a:pt x="49" y="28"/>
                </a:lnTo>
                <a:lnTo>
                  <a:pt x="50" y="28"/>
                </a:lnTo>
                <a:lnTo>
                  <a:pt x="51" y="28"/>
                </a:lnTo>
                <a:lnTo>
                  <a:pt x="53" y="28"/>
                </a:lnTo>
                <a:lnTo>
                  <a:pt x="54" y="28"/>
                </a:lnTo>
                <a:lnTo>
                  <a:pt x="57" y="28"/>
                </a:lnTo>
                <a:lnTo>
                  <a:pt x="59" y="28"/>
                </a:lnTo>
                <a:lnTo>
                  <a:pt x="62" y="28"/>
                </a:lnTo>
                <a:lnTo>
                  <a:pt x="67" y="28"/>
                </a:lnTo>
                <a:lnTo>
                  <a:pt x="70" y="28"/>
                </a:lnTo>
                <a:lnTo>
                  <a:pt x="74" y="28"/>
                </a:lnTo>
                <a:lnTo>
                  <a:pt x="77" y="28"/>
                </a:lnTo>
                <a:lnTo>
                  <a:pt x="81" y="28"/>
                </a:lnTo>
                <a:lnTo>
                  <a:pt x="83" y="28"/>
                </a:lnTo>
                <a:lnTo>
                  <a:pt x="89" y="28"/>
                </a:lnTo>
                <a:lnTo>
                  <a:pt x="91" y="28"/>
                </a:lnTo>
                <a:lnTo>
                  <a:pt x="96" y="28"/>
                </a:lnTo>
                <a:lnTo>
                  <a:pt x="98" y="28"/>
                </a:lnTo>
                <a:lnTo>
                  <a:pt x="102" y="28"/>
                </a:lnTo>
                <a:lnTo>
                  <a:pt x="105" y="28"/>
                </a:lnTo>
                <a:lnTo>
                  <a:pt x="109" y="28"/>
                </a:lnTo>
                <a:lnTo>
                  <a:pt x="112" y="28"/>
                </a:lnTo>
                <a:lnTo>
                  <a:pt x="115" y="28"/>
                </a:lnTo>
                <a:lnTo>
                  <a:pt x="117" y="28"/>
                </a:lnTo>
                <a:lnTo>
                  <a:pt x="120" y="28"/>
                </a:lnTo>
                <a:lnTo>
                  <a:pt x="121" y="28"/>
                </a:lnTo>
                <a:lnTo>
                  <a:pt x="124" y="28"/>
                </a:lnTo>
                <a:lnTo>
                  <a:pt x="125" y="28"/>
                </a:lnTo>
                <a:lnTo>
                  <a:pt x="127" y="28"/>
                </a:lnTo>
                <a:lnTo>
                  <a:pt x="127" y="28"/>
                </a:lnTo>
                <a:lnTo>
                  <a:pt x="127" y="28"/>
                </a:lnTo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06840" y="364500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6"/>
                </a:moveTo>
                <a:lnTo>
                  <a:pt x="9" y="3"/>
                </a:lnTo>
                <a:lnTo>
                  <a:pt x="8" y="1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3" y="10"/>
                </a:lnTo>
                <a:lnTo>
                  <a:pt x="5" y="10"/>
                </a:lnTo>
                <a:lnTo>
                  <a:pt x="6" y="10"/>
                </a:lnTo>
                <a:lnTo>
                  <a:pt x="8" y="9"/>
                </a:lnTo>
                <a:lnTo>
                  <a:pt x="9" y="7"/>
                </a:lnTo>
                <a:lnTo>
                  <a:pt x="9" y="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06840" y="364500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6"/>
                </a:moveTo>
                <a:lnTo>
                  <a:pt x="9" y="3"/>
                </a:lnTo>
                <a:lnTo>
                  <a:pt x="8" y="1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3" y="10"/>
                </a:lnTo>
                <a:lnTo>
                  <a:pt x="5" y="10"/>
                </a:lnTo>
                <a:lnTo>
                  <a:pt x="6" y="10"/>
                </a:lnTo>
                <a:lnTo>
                  <a:pt x="8" y="9"/>
                </a:lnTo>
                <a:lnTo>
                  <a:pt x="9" y="7"/>
                </a:lnTo>
                <a:lnTo>
                  <a:pt x="9" y="6"/>
                </a:lnTo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06840" y="364500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6"/>
                </a:moveTo>
                <a:lnTo>
                  <a:pt x="9" y="3"/>
                </a:lnTo>
                <a:lnTo>
                  <a:pt x="8" y="1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3" y="10"/>
                </a:lnTo>
                <a:lnTo>
                  <a:pt x="5" y="10"/>
                </a:lnTo>
                <a:lnTo>
                  <a:pt x="6" y="10"/>
                </a:lnTo>
                <a:lnTo>
                  <a:pt x="8" y="9"/>
                </a:lnTo>
                <a:lnTo>
                  <a:pt x="9" y="7"/>
                </a:lnTo>
                <a:lnTo>
                  <a:pt x="9" y="6"/>
                </a:lnTo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06920" y="3651120"/>
            <a:ext cx="25560" cy="1908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73720" y="3706920"/>
            <a:ext cx="19980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21160" y="3243240"/>
            <a:ext cx="144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08560" y="3243240"/>
            <a:ext cx="144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97400" y="3243240"/>
            <a:ext cx="144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83000" y="3243240"/>
            <a:ext cx="180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71840" y="3243240"/>
            <a:ext cx="180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56000" y="3243240"/>
            <a:ext cx="180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6640" y="3243240"/>
            <a:ext cx="144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30800" y="3243240"/>
            <a:ext cx="144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19640" y="3243240"/>
            <a:ext cx="144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07040" y="3243240"/>
            <a:ext cx="144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94080" y="3243240"/>
            <a:ext cx="180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80040" y="3243240"/>
            <a:ext cx="144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54480" y="3243240"/>
            <a:ext cx="144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67080" y="3243240"/>
            <a:ext cx="1800" cy="71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21160" y="333540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08560" y="333540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97400" y="333540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3000" y="3335400"/>
            <a:ext cx="180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71840" y="3335400"/>
            <a:ext cx="180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56000" y="3335400"/>
            <a:ext cx="180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333540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30800" y="333540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19640" y="333540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07040" y="333540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94080" y="3335400"/>
            <a:ext cx="180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80040" y="333540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54480" y="333540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7080" y="3335400"/>
            <a:ext cx="180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21160" y="3424320"/>
            <a:ext cx="144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08560" y="3424320"/>
            <a:ext cx="144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97400" y="3424320"/>
            <a:ext cx="144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83000" y="3424320"/>
            <a:ext cx="180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71840" y="3424320"/>
            <a:ext cx="180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3424320"/>
            <a:ext cx="180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6640" y="3424320"/>
            <a:ext cx="144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30800" y="3424320"/>
            <a:ext cx="144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19640" y="3424320"/>
            <a:ext cx="144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07040" y="3424320"/>
            <a:ext cx="144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94080" y="3424320"/>
            <a:ext cx="180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80040" y="3424320"/>
            <a:ext cx="144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54480" y="3424320"/>
            <a:ext cx="144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3424320"/>
            <a:ext cx="180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21160" y="351648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08560" y="351648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97400" y="351648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83000" y="3516480"/>
            <a:ext cx="180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71840" y="3516480"/>
            <a:ext cx="180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56000" y="3516480"/>
            <a:ext cx="180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46640" y="351648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30800" y="351648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19640" y="351648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07040" y="351648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294080" y="3516480"/>
            <a:ext cx="180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0040" y="351648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54480" y="3516480"/>
            <a:ext cx="144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67080" y="3516480"/>
            <a:ext cx="1800" cy="66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97480" y="3325680"/>
            <a:ext cx="1728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11" y="0"/>
                </a:moveTo>
                <a:lnTo>
                  <a:pt x="0" y="0"/>
                </a:lnTo>
                <a:lnTo>
                  <a:pt x="0" y="6"/>
                </a:lnTo>
                <a:lnTo>
                  <a:pt x="11" y="6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7480" y="3325680"/>
            <a:ext cx="1728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11" y="0"/>
                </a:moveTo>
                <a:lnTo>
                  <a:pt x="0" y="0"/>
                </a:lnTo>
                <a:lnTo>
                  <a:pt x="0" y="6"/>
                </a:lnTo>
                <a:lnTo>
                  <a:pt x="11" y="6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7480" y="3325680"/>
            <a:ext cx="17280" cy="972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24480" y="3325680"/>
            <a:ext cx="1404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0" y="0"/>
                </a:lnTo>
                <a:lnTo>
                  <a:pt x="0" y="6"/>
                </a:lnTo>
                <a:lnTo>
                  <a:pt x="9" y="6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24480" y="3325680"/>
            <a:ext cx="1404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0" y="0"/>
                </a:lnTo>
                <a:lnTo>
                  <a:pt x="0" y="6"/>
                </a:lnTo>
                <a:lnTo>
                  <a:pt x="9" y="6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24480" y="3325680"/>
            <a:ext cx="14040" cy="972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35360" y="339732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11" y="0"/>
                </a:moveTo>
                <a:lnTo>
                  <a:pt x="0" y="0"/>
                </a:lnTo>
                <a:lnTo>
                  <a:pt x="0" y="7"/>
                </a:lnTo>
                <a:lnTo>
                  <a:pt x="11" y="7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35360" y="339732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11" y="0"/>
                </a:moveTo>
                <a:lnTo>
                  <a:pt x="0" y="0"/>
                </a:lnTo>
                <a:lnTo>
                  <a:pt x="0" y="7"/>
                </a:lnTo>
                <a:lnTo>
                  <a:pt x="11" y="7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35360" y="3397320"/>
            <a:ext cx="17640" cy="1116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351792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9" y="0"/>
                </a:moveTo>
                <a:lnTo>
                  <a:pt x="0" y="0"/>
                </a:lnTo>
                <a:lnTo>
                  <a:pt x="0" y="5"/>
                </a:lnTo>
                <a:lnTo>
                  <a:pt x="9" y="5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351792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9" y="0"/>
                </a:moveTo>
                <a:lnTo>
                  <a:pt x="0" y="0"/>
                </a:lnTo>
                <a:lnTo>
                  <a:pt x="0" y="5"/>
                </a:lnTo>
                <a:lnTo>
                  <a:pt x="9" y="5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95680" y="3517920"/>
            <a:ext cx="14400" cy="792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14760" y="3517920"/>
            <a:ext cx="1764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11" y="0"/>
                </a:moveTo>
                <a:lnTo>
                  <a:pt x="0" y="0"/>
                </a:lnTo>
                <a:lnTo>
                  <a:pt x="0" y="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14760" y="3517920"/>
            <a:ext cx="1764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11" y="0"/>
                </a:moveTo>
                <a:lnTo>
                  <a:pt x="0" y="0"/>
                </a:lnTo>
                <a:lnTo>
                  <a:pt x="0" y="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14760" y="3517920"/>
            <a:ext cx="17640" cy="792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38520" y="351792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0" y="0"/>
                </a:lnTo>
                <a:lnTo>
                  <a:pt x="0" y="5"/>
                </a:lnTo>
                <a:lnTo>
                  <a:pt x="10" y="5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38520" y="351792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0" y="0"/>
                </a:lnTo>
                <a:lnTo>
                  <a:pt x="0" y="5"/>
                </a:lnTo>
                <a:lnTo>
                  <a:pt x="10" y="5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38520" y="3517920"/>
            <a:ext cx="15840" cy="792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14760" y="3624120"/>
            <a:ext cx="1764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11" y="0"/>
                </a:moveTo>
                <a:lnTo>
                  <a:pt x="0" y="0"/>
                </a:lnTo>
                <a:lnTo>
                  <a:pt x="0" y="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14760" y="3624120"/>
            <a:ext cx="1764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11" y="0"/>
                </a:moveTo>
                <a:lnTo>
                  <a:pt x="0" y="0"/>
                </a:lnTo>
                <a:lnTo>
                  <a:pt x="0" y="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14760" y="3624120"/>
            <a:ext cx="17640" cy="792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00720" y="3459240"/>
            <a:ext cx="142560" cy="19080"/>
          </a:xfrm>
          <a:custGeom>
            <a:avLst/>
            <a:gdLst/>
            <a:ahLst/>
            <a:rect l="l" t="t" r="r" b="b"/>
            <a:pathLst>
              <a:path w="90" h="12">
                <a:moveTo>
                  <a:pt x="90" y="0"/>
                </a:moveTo>
                <a:lnTo>
                  <a:pt x="0" y="0"/>
                </a:lnTo>
                <a:lnTo>
                  <a:pt x="0" y="12"/>
                </a:lnTo>
                <a:lnTo>
                  <a:pt x="90" y="12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3459240"/>
            <a:ext cx="142560" cy="19080"/>
          </a:xfrm>
          <a:custGeom>
            <a:avLst/>
            <a:gdLst/>
            <a:ahLst/>
            <a:rect l="l" t="t" r="r" b="b"/>
            <a:pathLst>
              <a:path w="90" h="12">
                <a:moveTo>
                  <a:pt x="90" y="0"/>
                </a:moveTo>
                <a:lnTo>
                  <a:pt x="0" y="0"/>
                </a:lnTo>
                <a:lnTo>
                  <a:pt x="0" y="12"/>
                </a:lnTo>
                <a:lnTo>
                  <a:pt x="90" y="12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00720" y="3459240"/>
            <a:ext cx="142560" cy="1908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11600" y="3522600"/>
            <a:ext cx="27000" cy="49320"/>
          </a:xfrm>
          <a:custGeom>
            <a:avLst/>
            <a:gdLst/>
            <a:ahLst/>
            <a:rect l="l" t="t" r="r" b="b"/>
            <a:pathLst>
              <a:path w="17" h="31">
                <a:moveTo>
                  <a:pt x="17" y="0"/>
                </a:moveTo>
                <a:lnTo>
                  <a:pt x="0" y="0"/>
                </a:lnTo>
                <a:lnTo>
                  <a:pt x="0" y="31"/>
                </a:lnTo>
                <a:lnTo>
                  <a:pt x="17" y="31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11600" y="3522600"/>
            <a:ext cx="27000" cy="49320"/>
          </a:xfrm>
          <a:custGeom>
            <a:avLst/>
            <a:gdLst/>
            <a:ahLst/>
            <a:rect l="l" t="t" r="r" b="b"/>
            <a:pathLst>
              <a:path w="17" h="31">
                <a:moveTo>
                  <a:pt x="17" y="0"/>
                </a:moveTo>
                <a:lnTo>
                  <a:pt x="0" y="0"/>
                </a:lnTo>
                <a:lnTo>
                  <a:pt x="0" y="31"/>
                </a:lnTo>
                <a:lnTo>
                  <a:pt x="17" y="31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11600" y="3522600"/>
            <a:ext cx="27000" cy="49320"/>
          </a:xfrm>
          <a:prstGeom prst="rect">
            <a:avLst/>
          </a:prstGeom>
          <a:solidFill>
            <a:srgbClr val="ffcc66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11600" y="352260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0" y="0"/>
                </a:moveTo>
                <a:lnTo>
                  <a:pt x="1" y="6"/>
                </a:lnTo>
                <a:lnTo>
                  <a:pt x="16" y="6"/>
                </a:lnTo>
                <a:lnTo>
                  <a:pt x="17" y="0"/>
                </a:lnTo>
              </a:path>
            </a:pathLst>
          </a:custGeom>
          <a:solidFill>
            <a:srgbClr val="ffcc66"/>
          </a:solidFill>
          <a:ln w="14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11600" y="353052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7"/>
                </a:moveTo>
                <a:lnTo>
                  <a:pt x="1" y="0"/>
                </a:lnTo>
                <a:lnTo>
                  <a:pt x="16" y="0"/>
                </a:lnTo>
                <a:lnTo>
                  <a:pt x="17" y="7"/>
                </a:lnTo>
              </a:path>
            </a:pathLst>
          </a:custGeom>
          <a:solidFill>
            <a:srgbClr val="ffcc66"/>
          </a:solidFill>
          <a:ln w="14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94240" y="3963960"/>
            <a:ext cx="42840" cy="36720"/>
          </a:xfrm>
          <a:custGeom>
            <a:avLst/>
            <a:gdLst/>
            <a:ahLst/>
            <a:rect l="l" t="t" r="r" b="b"/>
            <a:pathLst>
              <a:path w="27" h="23">
                <a:moveTo>
                  <a:pt x="27" y="11"/>
                </a:moveTo>
                <a:lnTo>
                  <a:pt x="27" y="11"/>
                </a:lnTo>
                <a:lnTo>
                  <a:pt x="25" y="10"/>
                </a:lnTo>
                <a:lnTo>
                  <a:pt x="25" y="7"/>
                </a:lnTo>
                <a:lnTo>
                  <a:pt x="25" y="7"/>
                </a:lnTo>
                <a:lnTo>
                  <a:pt x="25" y="6"/>
                </a:lnTo>
                <a:lnTo>
                  <a:pt x="25" y="4"/>
                </a:lnTo>
                <a:lnTo>
                  <a:pt x="24" y="4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1" y="2"/>
                </a:lnTo>
                <a:lnTo>
                  <a:pt x="20" y="2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5" y="2"/>
                </a:lnTo>
                <a:lnTo>
                  <a:pt x="4" y="2"/>
                </a:ln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1" y="4"/>
                </a:lnTo>
                <a:lnTo>
                  <a:pt x="1" y="4"/>
                </a:lnTo>
                <a:lnTo>
                  <a:pt x="1" y="6"/>
                </a:lnTo>
                <a:lnTo>
                  <a:pt x="0" y="7"/>
                </a:lnTo>
                <a:lnTo>
                  <a:pt x="0" y="7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1" y="16"/>
                </a:lnTo>
                <a:lnTo>
                  <a:pt x="1" y="19"/>
                </a:lnTo>
                <a:lnTo>
                  <a:pt x="1" y="19"/>
                </a:lnTo>
                <a:lnTo>
                  <a:pt x="2" y="19"/>
                </a:lnTo>
                <a:lnTo>
                  <a:pt x="2" y="20"/>
                </a:lnTo>
                <a:lnTo>
                  <a:pt x="4" y="21"/>
                </a:lnTo>
                <a:lnTo>
                  <a:pt x="4" y="21"/>
                </a:lnTo>
                <a:lnTo>
                  <a:pt x="5" y="21"/>
                </a:lnTo>
                <a:lnTo>
                  <a:pt x="6" y="21"/>
                </a:lnTo>
                <a:lnTo>
                  <a:pt x="6" y="21"/>
                </a:lnTo>
                <a:lnTo>
                  <a:pt x="8" y="23"/>
                </a:lnTo>
                <a:lnTo>
                  <a:pt x="9" y="23"/>
                </a:lnTo>
                <a:lnTo>
                  <a:pt x="16" y="23"/>
                </a:lnTo>
                <a:lnTo>
                  <a:pt x="17" y="23"/>
                </a:lnTo>
                <a:lnTo>
                  <a:pt x="19" y="21"/>
                </a:lnTo>
                <a:lnTo>
                  <a:pt x="20" y="21"/>
                </a:lnTo>
                <a:lnTo>
                  <a:pt x="20" y="21"/>
                </a:lnTo>
                <a:lnTo>
                  <a:pt x="21" y="21"/>
                </a:lnTo>
                <a:lnTo>
                  <a:pt x="23" y="21"/>
                </a:lnTo>
                <a:lnTo>
                  <a:pt x="23" y="20"/>
                </a:lnTo>
                <a:lnTo>
                  <a:pt x="23" y="19"/>
                </a:lnTo>
                <a:lnTo>
                  <a:pt x="24" y="19"/>
                </a:lnTo>
                <a:lnTo>
                  <a:pt x="25" y="19"/>
                </a:lnTo>
                <a:lnTo>
                  <a:pt x="25" y="16"/>
                </a:lnTo>
                <a:lnTo>
                  <a:pt x="25" y="15"/>
                </a:lnTo>
                <a:lnTo>
                  <a:pt x="25" y="15"/>
                </a:lnTo>
                <a:lnTo>
                  <a:pt x="25" y="14"/>
                </a:lnTo>
                <a:lnTo>
                  <a:pt x="27" y="12"/>
                </a:lnTo>
                <a:lnTo>
                  <a:pt x="27" y="11"/>
                </a:lnTo>
                <a:lnTo>
                  <a:pt x="27" y="1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94240" y="3963960"/>
            <a:ext cx="42840" cy="36720"/>
          </a:xfrm>
          <a:custGeom>
            <a:avLst/>
            <a:gdLst/>
            <a:ahLst/>
            <a:rect l="l" t="t" r="r" b="b"/>
            <a:pathLst>
              <a:path w="27" h="23">
                <a:moveTo>
                  <a:pt x="27" y="11"/>
                </a:moveTo>
                <a:lnTo>
                  <a:pt x="27" y="11"/>
                </a:lnTo>
                <a:lnTo>
                  <a:pt x="25" y="10"/>
                </a:lnTo>
                <a:lnTo>
                  <a:pt x="25" y="7"/>
                </a:lnTo>
                <a:lnTo>
                  <a:pt x="25" y="7"/>
                </a:lnTo>
                <a:lnTo>
                  <a:pt x="25" y="6"/>
                </a:lnTo>
                <a:lnTo>
                  <a:pt x="25" y="4"/>
                </a:lnTo>
                <a:lnTo>
                  <a:pt x="24" y="4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1" y="2"/>
                </a:lnTo>
                <a:lnTo>
                  <a:pt x="20" y="2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5" y="2"/>
                </a:lnTo>
                <a:lnTo>
                  <a:pt x="4" y="2"/>
                </a:ln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1" y="4"/>
                </a:lnTo>
                <a:lnTo>
                  <a:pt x="1" y="4"/>
                </a:lnTo>
                <a:lnTo>
                  <a:pt x="1" y="6"/>
                </a:lnTo>
                <a:lnTo>
                  <a:pt x="0" y="7"/>
                </a:lnTo>
                <a:lnTo>
                  <a:pt x="0" y="7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1" y="16"/>
                </a:lnTo>
                <a:lnTo>
                  <a:pt x="1" y="19"/>
                </a:lnTo>
                <a:lnTo>
                  <a:pt x="1" y="19"/>
                </a:lnTo>
                <a:lnTo>
                  <a:pt x="2" y="19"/>
                </a:lnTo>
                <a:lnTo>
                  <a:pt x="2" y="20"/>
                </a:lnTo>
                <a:lnTo>
                  <a:pt x="4" y="21"/>
                </a:lnTo>
                <a:lnTo>
                  <a:pt x="4" y="21"/>
                </a:lnTo>
                <a:lnTo>
                  <a:pt x="5" y="21"/>
                </a:lnTo>
                <a:lnTo>
                  <a:pt x="6" y="21"/>
                </a:lnTo>
                <a:lnTo>
                  <a:pt x="6" y="21"/>
                </a:lnTo>
                <a:lnTo>
                  <a:pt x="8" y="23"/>
                </a:lnTo>
                <a:lnTo>
                  <a:pt x="9" y="23"/>
                </a:lnTo>
                <a:lnTo>
                  <a:pt x="16" y="23"/>
                </a:lnTo>
                <a:lnTo>
                  <a:pt x="17" y="23"/>
                </a:lnTo>
                <a:lnTo>
                  <a:pt x="19" y="21"/>
                </a:lnTo>
                <a:lnTo>
                  <a:pt x="20" y="21"/>
                </a:lnTo>
                <a:lnTo>
                  <a:pt x="20" y="21"/>
                </a:lnTo>
                <a:lnTo>
                  <a:pt x="21" y="21"/>
                </a:lnTo>
                <a:lnTo>
                  <a:pt x="23" y="21"/>
                </a:lnTo>
                <a:lnTo>
                  <a:pt x="23" y="20"/>
                </a:lnTo>
                <a:lnTo>
                  <a:pt x="23" y="19"/>
                </a:lnTo>
                <a:lnTo>
                  <a:pt x="24" y="19"/>
                </a:lnTo>
                <a:lnTo>
                  <a:pt x="25" y="19"/>
                </a:lnTo>
                <a:lnTo>
                  <a:pt x="25" y="16"/>
                </a:lnTo>
                <a:lnTo>
                  <a:pt x="25" y="15"/>
                </a:lnTo>
                <a:lnTo>
                  <a:pt x="25" y="15"/>
                </a:lnTo>
                <a:lnTo>
                  <a:pt x="25" y="14"/>
                </a:lnTo>
                <a:lnTo>
                  <a:pt x="27" y="12"/>
                </a:lnTo>
                <a:lnTo>
                  <a:pt x="27" y="11"/>
                </a:lnTo>
                <a:lnTo>
                  <a:pt x="27" y="11"/>
                </a:lnTo>
                <a:close/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94240" y="3963960"/>
            <a:ext cx="42840" cy="36720"/>
          </a:xfrm>
          <a:custGeom>
            <a:avLst/>
            <a:gdLst/>
            <a:ahLst/>
            <a:rect l="l" t="t" r="r" b="b"/>
            <a:pathLst>
              <a:path w="27" h="23">
                <a:moveTo>
                  <a:pt x="27" y="11"/>
                </a:moveTo>
                <a:lnTo>
                  <a:pt x="27" y="11"/>
                </a:lnTo>
                <a:lnTo>
                  <a:pt x="25" y="10"/>
                </a:lnTo>
                <a:lnTo>
                  <a:pt x="25" y="7"/>
                </a:lnTo>
                <a:lnTo>
                  <a:pt x="25" y="7"/>
                </a:lnTo>
                <a:lnTo>
                  <a:pt x="25" y="6"/>
                </a:lnTo>
                <a:lnTo>
                  <a:pt x="25" y="4"/>
                </a:lnTo>
                <a:lnTo>
                  <a:pt x="24" y="4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1" y="2"/>
                </a:lnTo>
                <a:lnTo>
                  <a:pt x="20" y="2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5" y="2"/>
                </a:lnTo>
                <a:lnTo>
                  <a:pt x="4" y="2"/>
                </a:ln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1" y="4"/>
                </a:lnTo>
                <a:lnTo>
                  <a:pt x="1" y="4"/>
                </a:lnTo>
                <a:lnTo>
                  <a:pt x="1" y="6"/>
                </a:lnTo>
                <a:lnTo>
                  <a:pt x="0" y="7"/>
                </a:lnTo>
                <a:lnTo>
                  <a:pt x="0" y="7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1" y="16"/>
                </a:lnTo>
                <a:lnTo>
                  <a:pt x="1" y="19"/>
                </a:lnTo>
                <a:lnTo>
                  <a:pt x="1" y="19"/>
                </a:lnTo>
                <a:lnTo>
                  <a:pt x="2" y="19"/>
                </a:lnTo>
                <a:lnTo>
                  <a:pt x="2" y="20"/>
                </a:lnTo>
                <a:lnTo>
                  <a:pt x="4" y="21"/>
                </a:lnTo>
                <a:lnTo>
                  <a:pt x="4" y="21"/>
                </a:lnTo>
                <a:lnTo>
                  <a:pt x="5" y="21"/>
                </a:lnTo>
                <a:lnTo>
                  <a:pt x="6" y="21"/>
                </a:lnTo>
                <a:lnTo>
                  <a:pt x="6" y="21"/>
                </a:lnTo>
                <a:lnTo>
                  <a:pt x="8" y="23"/>
                </a:lnTo>
                <a:lnTo>
                  <a:pt x="9" y="23"/>
                </a:lnTo>
                <a:lnTo>
                  <a:pt x="16" y="23"/>
                </a:lnTo>
                <a:lnTo>
                  <a:pt x="17" y="23"/>
                </a:lnTo>
                <a:lnTo>
                  <a:pt x="19" y="21"/>
                </a:lnTo>
                <a:lnTo>
                  <a:pt x="20" y="21"/>
                </a:lnTo>
                <a:lnTo>
                  <a:pt x="20" y="21"/>
                </a:lnTo>
                <a:lnTo>
                  <a:pt x="21" y="21"/>
                </a:lnTo>
                <a:lnTo>
                  <a:pt x="23" y="21"/>
                </a:lnTo>
                <a:lnTo>
                  <a:pt x="23" y="20"/>
                </a:lnTo>
                <a:lnTo>
                  <a:pt x="23" y="19"/>
                </a:lnTo>
                <a:lnTo>
                  <a:pt x="24" y="19"/>
                </a:lnTo>
                <a:lnTo>
                  <a:pt x="25" y="19"/>
                </a:lnTo>
                <a:lnTo>
                  <a:pt x="25" y="16"/>
                </a:lnTo>
                <a:lnTo>
                  <a:pt x="25" y="15"/>
                </a:lnTo>
                <a:lnTo>
                  <a:pt x="25" y="15"/>
                </a:lnTo>
                <a:lnTo>
                  <a:pt x="25" y="14"/>
                </a:lnTo>
                <a:lnTo>
                  <a:pt x="27" y="12"/>
                </a:lnTo>
                <a:lnTo>
                  <a:pt x="27" y="11"/>
                </a:lnTo>
              </a:path>
            </a:pathLst>
          </a:custGeom>
          <a:solidFill>
            <a:srgbClr val="ffcc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497480" y="3986280"/>
            <a:ext cx="324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497480" y="3986280"/>
            <a:ext cx="468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4500720" y="3987360"/>
            <a:ext cx="2880" cy="180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500720" y="3987360"/>
            <a:ext cx="2880" cy="180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503600" y="3989160"/>
            <a:ext cx="1800" cy="468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4503600" y="3989160"/>
            <a:ext cx="3240" cy="468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503600" y="3993840"/>
            <a:ext cx="5040" cy="32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503600" y="3979440"/>
            <a:ext cx="5040" cy="32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503600" y="3979440"/>
            <a:ext cx="5040" cy="32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503600" y="3981600"/>
            <a:ext cx="324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506840" y="3981240"/>
            <a:ext cx="1800" cy="468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506840" y="3981240"/>
            <a:ext cx="3240" cy="468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508640" y="3986280"/>
            <a:ext cx="144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510080" y="3981600"/>
            <a:ext cx="468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508640" y="3983040"/>
            <a:ext cx="6120" cy="648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8640" y="3985920"/>
            <a:ext cx="6120" cy="32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508640" y="3973680"/>
            <a:ext cx="612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518000" y="3963600"/>
            <a:ext cx="1440" cy="468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10080" y="3973680"/>
            <a:ext cx="468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18000" y="3963960"/>
            <a:ext cx="1440" cy="648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14760" y="3973680"/>
            <a:ext cx="324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519440" y="3968280"/>
            <a:ext cx="1800" cy="180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4518000" y="3970080"/>
            <a:ext cx="1440" cy="32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514760" y="3974760"/>
            <a:ext cx="3240" cy="468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19440" y="3973680"/>
            <a:ext cx="180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519440" y="3973680"/>
            <a:ext cx="180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524480" y="3970080"/>
            <a:ext cx="1440" cy="32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18000" y="3981600"/>
            <a:ext cx="144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19440" y="3975120"/>
            <a:ext cx="180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4524480" y="3970080"/>
            <a:ext cx="1440" cy="32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518000" y="3981600"/>
            <a:ext cx="1440" cy="144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521240" y="3974760"/>
            <a:ext cx="1440" cy="4680"/>
          </a:xfrm>
          <a:prstGeom prst="line">
            <a:avLst/>
          </a:prstGeom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24480" y="3973680"/>
            <a:ext cx="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13920" y="3409920"/>
            <a:ext cx="45792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b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81160" y="3643200"/>
            <a:ext cx="53424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65760" y="3021120"/>
            <a:ext cx="1576440" cy="1301760"/>
          </a:xfrm>
          <a:custGeom>
            <a:avLst/>
            <a:gdLst/>
            <a:ahLst/>
            <a:rect l="l" t="t" r="r" b="b"/>
            <a:pathLst>
              <a:path w="993" h="820">
                <a:moveTo>
                  <a:pt x="146" y="608"/>
                </a:moveTo>
                <a:lnTo>
                  <a:pt x="159" y="652"/>
                </a:lnTo>
                <a:lnTo>
                  <a:pt x="178" y="691"/>
                </a:lnTo>
                <a:lnTo>
                  <a:pt x="200" y="726"/>
                </a:lnTo>
                <a:lnTo>
                  <a:pt x="224" y="756"/>
                </a:lnTo>
                <a:lnTo>
                  <a:pt x="250" y="780"/>
                </a:lnTo>
                <a:lnTo>
                  <a:pt x="277" y="799"/>
                </a:lnTo>
                <a:lnTo>
                  <a:pt x="304" y="812"/>
                </a:lnTo>
                <a:lnTo>
                  <a:pt x="335" y="820"/>
                </a:lnTo>
                <a:lnTo>
                  <a:pt x="363" y="820"/>
                </a:lnTo>
                <a:lnTo>
                  <a:pt x="391" y="813"/>
                </a:lnTo>
                <a:lnTo>
                  <a:pt x="421" y="803"/>
                </a:lnTo>
                <a:lnTo>
                  <a:pt x="447" y="783"/>
                </a:lnTo>
                <a:lnTo>
                  <a:pt x="471" y="758"/>
                </a:lnTo>
                <a:lnTo>
                  <a:pt x="497" y="728"/>
                </a:lnTo>
                <a:lnTo>
                  <a:pt x="520" y="758"/>
                </a:lnTo>
                <a:lnTo>
                  <a:pt x="547" y="783"/>
                </a:lnTo>
                <a:lnTo>
                  <a:pt x="572" y="803"/>
                </a:lnTo>
                <a:lnTo>
                  <a:pt x="601" y="813"/>
                </a:lnTo>
                <a:lnTo>
                  <a:pt x="630" y="820"/>
                </a:lnTo>
                <a:lnTo>
                  <a:pt x="659" y="820"/>
                </a:lnTo>
                <a:lnTo>
                  <a:pt x="686" y="812"/>
                </a:lnTo>
                <a:lnTo>
                  <a:pt x="714" y="799"/>
                </a:lnTo>
                <a:lnTo>
                  <a:pt x="744" y="780"/>
                </a:lnTo>
                <a:lnTo>
                  <a:pt x="768" y="756"/>
                </a:lnTo>
                <a:lnTo>
                  <a:pt x="791" y="726"/>
                </a:lnTo>
                <a:lnTo>
                  <a:pt x="813" y="691"/>
                </a:lnTo>
                <a:lnTo>
                  <a:pt x="831" y="652"/>
                </a:lnTo>
                <a:lnTo>
                  <a:pt x="847" y="608"/>
                </a:lnTo>
                <a:lnTo>
                  <a:pt x="868" y="615"/>
                </a:lnTo>
                <a:lnTo>
                  <a:pt x="889" y="613"/>
                </a:lnTo>
                <a:lnTo>
                  <a:pt x="910" y="606"/>
                </a:lnTo>
                <a:lnTo>
                  <a:pt x="930" y="591"/>
                </a:lnTo>
                <a:lnTo>
                  <a:pt x="949" y="574"/>
                </a:lnTo>
                <a:lnTo>
                  <a:pt x="964" y="546"/>
                </a:lnTo>
                <a:lnTo>
                  <a:pt x="976" y="516"/>
                </a:lnTo>
                <a:lnTo>
                  <a:pt x="984" y="482"/>
                </a:lnTo>
                <a:lnTo>
                  <a:pt x="991" y="446"/>
                </a:lnTo>
                <a:lnTo>
                  <a:pt x="993" y="410"/>
                </a:lnTo>
                <a:lnTo>
                  <a:pt x="991" y="371"/>
                </a:lnTo>
                <a:lnTo>
                  <a:pt x="984" y="334"/>
                </a:lnTo>
                <a:lnTo>
                  <a:pt x="976" y="300"/>
                </a:lnTo>
                <a:lnTo>
                  <a:pt x="964" y="273"/>
                </a:lnTo>
                <a:lnTo>
                  <a:pt x="949" y="246"/>
                </a:lnTo>
                <a:lnTo>
                  <a:pt x="930" y="227"/>
                </a:lnTo>
                <a:lnTo>
                  <a:pt x="910" y="211"/>
                </a:lnTo>
                <a:lnTo>
                  <a:pt x="889" y="206"/>
                </a:lnTo>
                <a:lnTo>
                  <a:pt x="868" y="204"/>
                </a:lnTo>
                <a:lnTo>
                  <a:pt x="847" y="211"/>
                </a:lnTo>
                <a:lnTo>
                  <a:pt x="831" y="167"/>
                </a:lnTo>
                <a:lnTo>
                  <a:pt x="813" y="127"/>
                </a:lnTo>
                <a:lnTo>
                  <a:pt x="791" y="91"/>
                </a:lnTo>
                <a:lnTo>
                  <a:pt x="768" y="63"/>
                </a:lnTo>
                <a:lnTo>
                  <a:pt x="744" y="36"/>
                </a:lnTo>
                <a:lnTo>
                  <a:pt x="714" y="19"/>
                </a:lnTo>
                <a:lnTo>
                  <a:pt x="686" y="6"/>
                </a:lnTo>
                <a:lnTo>
                  <a:pt x="659" y="0"/>
                </a:lnTo>
                <a:lnTo>
                  <a:pt x="630" y="0"/>
                </a:lnTo>
                <a:lnTo>
                  <a:pt x="601" y="3"/>
                </a:lnTo>
                <a:lnTo>
                  <a:pt x="572" y="16"/>
                </a:lnTo>
                <a:lnTo>
                  <a:pt x="547" y="35"/>
                </a:lnTo>
                <a:lnTo>
                  <a:pt x="520" y="59"/>
                </a:lnTo>
                <a:lnTo>
                  <a:pt x="497" y="88"/>
                </a:lnTo>
                <a:lnTo>
                  <a:pt x="471" y="59"/>
                </a:lnTo>
                <a:lnTo>
                  <a:pt x="447" y="35"/>
                </a:lnTo>
                <a:lnTo>
                  <a:pt x="421" y="16"/>
                </a:lnTo>
                <a:lnTo>
                  <a:pt x="391" y="3"/>
                </a:lnTo>
                <a:lnTo>
                  <a:pt x="363" y="0"/>
                </a:lnTo>
                <a:lnTo>
                  <a:pt x="335" y="0"/>
                </a:lnTo>
                <a:lnTo>
                  <a:pt x="304" y="6"/>
                </a:lnTo>
                <a:lnTo>
                  <a:pt x="277" y="19"/>
                </a:lnTo>
                <a:lnTo>
                  <a:pt x="250" y="36"/>
                </a:lnTo>
                <a:lnTo>
                  <a:pt x="224" y="63"/>
                </a:lnTo>
                <a:lnTo>
                  <a:pt x="200" y="91"/>
                </a:lnTo>
                <a:lnTo>
                  <a:pt x="178" y="127"/>
                </a:lnTo>
                <a:lnTo>
                  <a:pt x="159" y="167"/>
                </a:lnTo>
                <a:lnTo>
                  <a:pt x="146" y="211"/>
                </a:lnTo>
                <a:lnTo>
                  <a:pt x="123" y="204"/>
                </a:lnTo>
                <a:lnTo>
                  <a:pt x="102" y="206"/>
                </a:lnTo>
                <a:lnTo>
                  <a:pt x="83" y="211"/>
                </a:lnTo>
                <a:lnTo>
                  <a:pt x="62" y="227"/>
                </a:lnTo>
                <a:lnTo>
                  <a:pt x="45" y="246"/>
                </a:lnTo>
                <a:lnTo>
                  <a:pt x="30" y="273"/>
                </a:lnTo>
                <a:lnTo>
                  <a:pt x="17" y="300"/>
                </a:lnTo>
                <a:lnTo>
                  <a:pt x="6" y="334"/>
                </a:lnTo>
                <a:lnTo>
                  <a:pt x="2" y="371"/>
                </a:lnTo>
                <a:lnTo>
                  <a:pt x="0" y="410"/>
                </a:lnTo>
                <a:lnTo>
                  <a:pt x="2" y="446"/>
                </a:lnTo>
                <a:lnTo>
                  <a:pt x="6" y="482"/>
                </a:lnTo>
                <a:lnTo>
                  <a:pt x="17" y="516"/>
                </a:lnTo>
                <a:lnTo>
                  <a:pt x="30" y="546"/>
                </a:lnTo>
                <a:lnTo>
                  <a:pt x="45" y="574"/>
                </a:lnTo>
                <a:lnTo>
                  <a:pt x="62" y="591"/>
                </a:lnTo>
                <a:lnTo>
                  <a:pt x="83" y="606"/>
                </a:lnTo>
                <a:lnTo>
                  <a:pt x="102" y="613"/>
                </a:lnTo>
                <a:lnTo>
                  <a:pt x="123" y="615"/>
                </a:lnTo>
                <a:lnTo>
                  <a:pt x="146" y="608"/>
                </a:lnTo>
                <a:lnTo>
                  <a:pt x="146" y="60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65760" y="3021120"/>
            <a:ext cx="1576440" cy="1301760"/>
          </a:xfrm>
          <a:custGeom>
            <a:avLst/>
            <a:gdLst/>
            <a:ahLst/>
            <a:rect l="l" t="t" r="r" b="b"/>
            <a:pathLst>
              <a:path w="993" h="820">
                <a:moveTo>
                  <a:pt x="146" y="608"/>
                </a:moveTo>
                <a:lnTo>
                  <a:pt x="159" y="652"/>
                </a:lnTo>
                <a:lnTo>
                  <a:pt x="178" y="691"/>
                </a:lnTo>
                <a:lnTo>
                  <a:pt x="200" y="726"/>
                </a:lnTo>
                <a:lnTo>
                  <a:pt x="224" y="756"/>
                </a:lnTo>
                <a:lnTo>
                  <a:pt x="250" y="780"/>
                </a:lnTo>
                <a:lnTo>
                  <a:pt x="277" y="799"/>
                </a:lnTo>
                <a:lnTo>
                  <a:pt x="304" y="812"/>
                </a:lnTo>
                <a:lnTo>
                  <a:pt x="335" y="820"/>
                </a:lnTo>
                <a:lnTo>
                  <a:pt x="363" y="820"/>
                </a:lnTo>
                <a:lnTo>
                  <a:pt x="391" y="813"/>
                </a:lnTo>
                <a:lnTo>
                  <a:pt x="421" y="803"/>
                </a:lnTo>
                <a:lnTo>
                  <a:pt x="447" y="783"/>
                </a:lnTo>
                <a:lnTo>
                  <a:pt x="471" y="758"/>
                </a:lnTo>
                <a:lnTo>
                  <a:pt x="497" y="728"/>
                </a:lnTo>
                <a:lnTo>
                  <a:pt x="520" y="758"/>
                </a:lnTo>
                <a:lnTo>
                  <a:pt x="547" y="783"/>
                </a:lnTo>
                <a:lnTo>
                  <a:pt x="572" y="803"/>
                </a:lnTo>
                <a:lnTo>
                  <a:pt x="601" y="813"/>
                </a:lnTo>
                <a:lnTo>
                  <a:pt x="630" y="820"/>
                </a:lnTo>
                <a:lnTo>
                  <a:pt x="659" y="820"/>
                </a:lnTo>
                <a:lnTo>
                  <a:pt x="686" y="812"/>
                </a:lnTo>
                <a:lnTo>
                  <a:pt x="714" y="799"/>
                </a:lnTo>
                <a:lnTo>
                  <a:pt x="744" y="780"/>
                </a:lnTo>
                <a:lnTo>
                  <a:pt x="768" y="756"/>
                </a:lnTo>
                <a:lnTo>
                  <a:pt x="791" y="726"/>
                </a:lnTo>
                <a:lnTo>
                  <a:pt x="813" y="691"/>
                </a:lnTo>
                <a:lnTo>
                  <a:pt x="831" y="652"/>
                </a:lnTo>
                <a:lnTo>
                  <a:pt x="847" y="608"/>
                </a:lnTo>
                <a:lnTo>
                  <a:pt x="868" y="615"/>
                </a:lnTo>
                <a:lnTo>
                  <a:pt x="889" y="613"/>
                </a:lnTo>
                <a:lnTo>
                  <a:pt x="910" y="606"/>
                </a:lnTo>
                <a:lnTo>
                  <a:pt x="930" y="591"/>
                </a:lnTo>
                <a:lnTo>
                  <a:pt x="949" y="574"/>
                </a:lnTo>
                <a:lnTo>
                  <a:pt x="964" y="546"/>
                </a:lnTo>
                <a:lnTo>
                  <a:pt x="976" y="516"/>
                </a:lnTo>
                <a:lnTo>
                  <a:pt x="984" y="482"/>
                </a:lnTo>
                <a:lnTo>
                  <a:pt x="991" y="446"/>
                </a:lnTo>
                <a:lnTo>
                  <a:pt x="993" y="410"/>
                </a:lnTo>
                <a:lnTo>
                  <a:pt x="991" y="371"/>
                </a:lnTo>
                <a:lnTo>
                  <a:pt x="984" y="334"/>
                </a:lnTo>
                <a:lnTo>
                  <a:pt x="976" y="300"/>
                </a:lnTo>
                <a:lnTo>
                  <a:pt x="964" y="273"/>
                </a:lnTo>
                <a:lnTo>
                  <a:pt x="949" y="246"/>
                </a:lnTo>
                <a:lnTo>
                  <a:pt x="930" y="227"/>
                </a:lnTo>
                <a:lnTo>
                  <a:pt x="910" y="211"/>
                </a:lnTo>
                <a:lnTo>
                  <a:pt x="889" y="206"/>
                </a:lnTo>
                <a:lnTo>
                  <a:pt x="868" y="204"/>
                </a:lnTo>
                <a:lnTo>
                  <a:pt x="847" y="211"/>
                </a:lnTo>
                <a:lnTo>
                  <a:pt x="831" y="167"/>
                </a:lnTo>
                <a:lnTo>
                  <a:pt x="813" y="127"/>
                </a:lnTo>
                <a:lnTo>
                  <a:pt x="791" y="91"/>
                </a:lnTo>
                <a:lnTo>
                  <a:pt x="768" y="63"/>
                </a:lnTo>
                <a:lnTo>
                  <a:pt x="744" y="36"/>
                </a:lnTo>
                <a:lnTo>
                  <a:pt x="714" y="19"/>
                </a:lnTo>
                <a:lnTo>
                  <a:pt x="686" y="6"/>
                </a:lnTo>
                <a:lnTo>
                  <a:pt x="659" y="0"/>
                </a:lnTo>
                <a:lnTo>
                  <a:pt x="630" y="0"/>
                </a:lnTo>
                <a:lnTo>
                  <a:pt x="601" y="3"/>
                </a:lnTo>
                <a:lnTo>
                  <a:pt x="572" y="16"/>
                </a:lnTo>
                <a:lnTo>
                  <a:pt x="547" y="35"/>
                </a:lnTo>
                <a:lnTo>
                  <a:pt x="520" y="59"/>
                </a:lnTo>
                <a:lnTo>
                  <a:pt x="497" y="88"/>
                </a:lnTo>
                <a:lnTo>
                  <a:pt x="471" y="59"/>
                </a:lnTo>
                <a:lnTo>
                  <a:pt x="447" y="35"/>
                </a:lnTo>
                <a:lnTo>
                  <a:pt x="421" y="16"/>
                </a:lnTo>
                <a:lnTo>
                  <a:pt x="391" y="3"/>
                </a:lnTo>
                <a:lnTo>
                  <a:pt x="363" y="0"/>
                </a:lnTo>
                <a:lnTo>
                  <a:pt x="335" y="0"/>
                </a:lnTo>
                <a:lnTo>
                  <a:pt x="304" y="6"/>
                </a:lnTo>
                <a:lnTo>
                  <a:pt x="277" y="19"/>
                </a:lnTo>
                <a:lnTo>
                  <a:pt x="250" y="36"/>
                </a:lnTo>
                <a:lnTo>
                  <a:pt x="224" y="63"/>
                </a:lnTo>
                <a:lnTo>
                  <a:pt x="200" y="91"/>
                </a:lnTo>
                <a:lnTo>
                  <a:pt x="178" y="127"/>
                </a:lnTo>
                <a:lnTo>
                  <a:pt x="159" y="167"/>
                </a:lnTo>
                <a:lnTo>
                  <a:pt x="146" y="211"/>
                </a:lnTo>
                <a:lnTo>
                  <a:pt x="123" y="204"/>
                </a:lnTo>
                <a:lnTo>
                  <a:pt x="102" y="206"/>
                </a:lnTo>
                <a:lnTo>
                  <a:pt x="83" y="211"/>
                </a:lnTo>
                <a:lnTo>
                  <a:pt x="62" y="227"/>
                </a:lnTo>
                <a:lnTo>
                  <a:pt x="45" y="246"/>
                </a:lnTo>
                <a:lnTo>
                  <a:pt x="30" y="273"/>
                </a:lnTo>
                <a:lnTo>
                  <a:pt x="17" y="300"/>
                </a:lnTo>
                <a:lnTo>
                  <a:pt x="6" y="334"/>
                </a:lnTo>
                <a:lnTo>
                  <a:pt x="2" y="371"/>
                </a:lnTo>
                <a:lnTo>
                  <a:pt x="0" y="410"/>
                </a:lnTo>
                <a:lnTo>
                  <a:pt x="2" y="446"/>
                </a:lnTo>
                <a:lnTo>
                  <a:pt x="6" y="482"/>
                </a:lnTo>
                <a:lnTo>
                  <a:pt x="17" y="516"/>
                </a:lnTo>
                <a:lnTo>
                  <a:pt x="30" y="546"/>
                </a:lnTo>
                <a:lnTo>
                  <a:pt x="45" y="574"/>
                </a:lnTo>
                <a:lnTo>
                  <a:pt x="62" y="591"/>
                </a:lnTo>
                <a:lnTo>
                  <a:pt x="83" y="606"/>
                </a:lnTo>
                <a:lnTo>
                  <a:pt x="102" y="613"/>
                </a:lnTo>
                <a:lnTo>
                  <a:pt x="123" y="615"/>
                </a:lnTo>
                <a:lnTo>
                  <a:pt x="146" y="608"/>
                </a:lnTo>
                <a:lnTo>
                  <a:pt x="146" y="608"/>
                </a:lnTo>
                <a:close/>
              </a:path>
            </a:pathLst>
          </a:custGeom>
          <a:solidFill>
            <a:srgbClr val="ffcc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65760" y="3021120"/>
            <a:ext cx="1576440" cy="1301760"/>
          </a:xfrm>
          <a:custGeom>
            <a:avLst/>
            <a:gdLst/>
            <a:ahLst/>
            <a:rect l="l" t="t" r="r" b="b"/>
            <a:pathLst>
              <a:path w="993" h="820">
                <a:moveTo>
                  <a:pt x="146" y="608"/>
                </a:moveTo>
                <a:lnTo>
                  <a:pt x="159" y="652"/>
                </a:lnTo>
                <a:lnTo>
                  <a:pt x="178" y="691"/>
                </a:lnTo>
                <a:lnTo>
                  <a:pt x="200" y="726"/>
                </a:lnTo>
                <a:lnTo>
                  <a:pt x="224" y="756"/>
                </a:lnTo>
                <a:lnTo>
                  <a:pt x="250" y="780"/>
                </a:lnTo>
                <a:lnTo>
                  <a:pt x="277" y="799"/>
                </a:lnTo>
                <a:lnTo>
                  <a:pt x="304" y="812"/>
                </a:lnTo>
                <a:lnTo>
                  <a:pt x="335" y="820"/>
                </a:lnTo>
                <a:lnTo>
                  <a:pt x="363" y="820"/>
                </a:lnTo>
                <a:lnTo>
                  <a:pt x="391" y="813"/>
                </a:lnTo>
                <a:lnTo>
                  <a:pt x="421" y="803"/>
                </a:lnTo>
                <a:lnTo>
                  <a:pt x="447" y="783"/>
                </a:lnTo>
                <a:lnTo>
                  <a:pt x="471" y="758"/>
                </a:lnTo>
                <a:lnTo>
                  <a:pt x="497" y="728"/>
                </a:lnTo>
                <a:lnTo>
                  <a:pt x="520" y="758"/>
                </a:lnTo>
                <a:lnTo>
                  <a:pt x="547" y="783"/>
                </a:lnTo>
                <a:lnTo>
                  <a:pt x="572" y="803"/>
                </a:lnTo>
                <a:lnTo>
                  <a:pt x="601" y="813"/>
                </a:lnTo>
                <a:lnTo>
                  <a:pt x="630" y="820"/>
                </a:lnTo>
                <a:lnTo>
                  <a:pt x="659" y="820"/>
                </a:lnTo>
                <a:lnTo>
                  <a:pt x="686" y="812"/>
                </a:lnTo>
                <a:lnTo>
                  <a:pt x="714" y="799"/>
                </a:lnTo>
                <a:lnTo>
                  <a:pt x="744" y="780"/>
                </a:lnTo>
                <a:lnTo>
                  <a:pt x="768" y="756"/>
                </a:lnTo>
                <a:lnTo>
                  <a:pt x="791" y="726"/>
                </a:lnTo>
                <a:lnTo>
                  <a:pt x="813" y="691"/>
                </a:lnTo>
                <a:lnTo>
                  <a:pt x="831" y="652"/>
                </a:lnTo>
                <a:lnTo>
                  <a:pt x="847" y="608"/>
                </a:lnTo>
                <a:lnTo>
                  <a:pt x="868" y="615"/>
                </a:lnTo>
                <a:lnTo>
                  <a:pt x="889" y="613"/>
                </a:lnTo>
                <a:lnTo>
                  <a:pt x="910" y="606"/>
                </a:lnTo>
                <a:lnTo>
                  <a:pt x="930" y="591"/>
                </a:lnTo>
                <a:lnTo>
                  <a:pt x="949" y="574"/>
                </a:lnTo>
                <a:lnTo>
                  <a:pt x="964" y="546"/>
                </a:lnTo>
                <a:lnTo>
                  <a:pt x="976" y="516"/>
                </a:lnTo>
                <a:lnTo>
                  <a:pt x="984" y="482"/>
                </a:lnTo>
                <a:lnTo>
                  <a:pt x="991" y="446"/>
                </a:lnTo>
                <a:lnTo>
                  <a:pt x="993" y="410"/>
                </a:lnTo>
                <a:lnTo>
                  <a:pt x="991" y="371"/>
                </a:lnTo>
                <a:lnTo>
                  <a:pt x="984" y="334"/>
                </a:lnTo>
                <a:lnTo>
                  <a:pt x="976" y="300"/>
                </a:lnTo>
                <a:lnTo>
                  <a:pt x="964" y="273"/>
                </a:lnTo>
                <a:lnTo>
                  <a:pt x="949" y="246"/>
                </a:lnTo>
                <a:lnTo>
                  <a:pt x="930" y="227"/>
                </a:lnTo>
                <a:lnTo>
                  <a:pt x="910" y="211"/>
                </a:lnTo>
                <a:lnTo>
                  <a:pt x="889" y="206"/>
                </a:lnTo>
                <a:lnTo>
                  <a:pt x="868" y="204"/>
                </a:lnTo>
                <a:lnTo>
                  <a:pt x="847" y="211"/>
                </a:lnTo>
                <a:lnTo>
                  <a:pt x="831" y="167"/>
                </a:lnTo>
                <a:lnTo>
                  <a:pt x="813" y="127"/>
                </a:lnTo>
                <a:lnTo>
                  <a:pt x="791" y="91"/>
                </a:lnTo>
                <a:lnTo>
                  <a:pt x="768" y="63"/>
                </a:lnTo>
                <a:lnTo>
                  <a:pt x="744" y="36"/>
                </a:lnTo>
                <a:lnTo>
                  <a:pt x="714" y="19"/>
                </a:lnTo>
                <a:lnTo>
                  <a:pt x="686" y="6"/>
                </a:lnTo>
                <a:lnTo>
                  <a:pt x="659" y="0"/>
                </a:lnTo>
                <a:lnTo>
                  <a:pt x="630" y="0"/>
                </a:lnTo>
                <a:lnTo>
                  <a:pt x="601" y="3"/>
                </a:lnTo>
                <a:lnTo>
                  <a:pt x="572" y="16"/>
                </a:lnTo>
                <a:lnTo>
                  <a:pt x="547" y="35"/>
                </a:lnTo>
                <a:lnTo>
                  <a:pt x="520" y="59"/>
                </a:lnTo>
                <a:lnTo>
                  <a:pt x="497" y="88"/>
                </a:lnTo>
                <a:lnTo>
                  <a:pt x="471" y="59"/>
                </a:lnTo>
                <a:lnTo>
                  <a:pt x="447" y="35"/>
                </a:lnTo>
                <a:lnTo>
                  <a:pt x="421" y="16"/>
                </a:lnTo>
                <a:lnTo>
                  <a:pt x="391" y="3"/>
                </a:lnTo>
                <a:lnTo>
                  <a:pt x="363" y="0"/>
                </a:lnTo>
                <a:lnTo>
                  <a:pt x="335" y="0"/>
                </a:lnTo>
                <a:lnTo>
                  <a:pt x="304" y="6"/>
                </a:lnTo>
                <a:lnTo>
                  <a:pt x="277" y="19"/>
                </a:lnTo>
                <a:lnTo>
                  <a:pt x="250" y="36"/>
                </a:lnTo>
                <a:lnTo>
                  <a:pt x="224" y="63"/>
                </a:lnTo>
                <a:lnTo>
                  <a:pt x="200" y="91"/>
                </a:lnTo>
                <a:lnTo>
                  <a:pt x="178" y="127"/>
                </a:lnTo>
                <a:lnTo>
                  <a:pt x="159" y="167"/>
                </a:lnTo>
                <a:lnTo>
                  <a:pt x="146" y="211"/>
                </a:lnTo>
                <a:lnTo>
                  <a:pt x="123" y="204"/>
                </a:lnTo>
                <a:lnTo>
                  <a:pt x="102" y="206"/>
                </a:lnTo>
                <a:lnTo>
                  <a:pt x="83" y="211"/>
                </a:lnTo>
                <a:lnTo>
                  <a:pt x="62" y="227"/>
                </a:lnTo>
                <a:lnTo>
                  <a:pt x="45" y="246"/>
                </a:lnTo>
                <a:lnTo>
                  <a:pt x="30" y="273"/>
                </a:lnTo>
                <a:lnTo>
                  <a:pt x="17" y="300"/>
                </a:lnTo>
                <a:lnTo>
                  <a:pt x="6" y="334"/>
                </a:lnTo>
                <a:lnTo>
                  <a:pt x="2" y="371"/>
                </a:lnTo>
                <a:lnTo>
                  <a:pt x="0" y="410"/>
                </a:lnTo>
                <a:lnTo>
                  <a:pt x="2" y="446"/>
                </a:lnTo>
                <a:lnTo>
                  <a:pt x="6" y="482"/>
                </a:lnTo>
                <a:lnTo>
                  <a:pt x="17" y="516"/>
                </a:lnTo>
                <a:lnTo>
                  <a:pt x="30" y="546"/>
                </a:lnTo>
                <a:lnTo>
                  <a:pt x="45" y="574"/>
                </a:lnTo>
                <a:lnTo>
                  <a:pt x="62" y="591"/>
                </a:lnTo>
                <a:lnTo>
                  <a:pt x="83" y="606"/>
                </a:lnTo>
                <a:lnTo>
                  <a:pt x="102" y="613"/>
                </a:lnTo>
                <a:lnTo>
                  <a:pt x="123" y="615"/>
                </a:lnTo>
                <a:lnTo>
                  <a:pt x="146" y="608"/>
                </a:lnTo>
              </a:path>
            </a:pathLst>
          </a:custGeom>
          <a:solidFill>
            <a:srgbClr val="ffcc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44280" y="3525840"/>
            <a:ext cx="65160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4773240" y="3672000"/>
            <a:ext cx="1033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13120" y="3630600"/>
            <a:ext cx="71640" cy="79560"/>
          </a:xfrm>
          <a:custGeom>
            <a:avLst/>
            <a:gdLst/>
            <a:ahLst/>
            <a:rect l="l" t="t" r="r" b="b"/>
            <a:pathLst>
              <a:path w="45" h="50">
                <a:moveTo>
                  <a:pt x="45" y="50"/>
                </a:moveTo>
                <a:lnTo>
                  <a:pt x="0" y="26"/>
                </a:lnTo>
                <a:lnTo>
                  <a:pt x="45" y="0"/>
                </a:lnTo>
                <a:lnTo>
                  <a:pt x="45" y="50"/>
                </a:lnTo>
                <a:lnTo>
                  <a:pt x="45" y="5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838320" y="3654360"/>
            <a:ext cx="369720" cy="110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8440" y="4734000"/>
            <a:ext cx="65160" cy="88920"/>
          </a:xfrm>
          <a:custGeom>
            <a:avLst/>
            <a:gdLst/>
            <a:ahLst/>
            <a:rect l="l" t="t" r="r" b="b"/>
            <a:pathLst>
              <a:path w="41" h="56">
                <a:moveTo>
                  <a:pt x="41" y="18"/>
                </a:moveTo>
                <a:lnTo>
                  <a:pt x="5" y="56"/>
                </a:lnTo>
                <a:lnTo>
                  <a:pt x="0" y="0"/>
                </a:lnTo>
                <a:lnTo>
                  <a:pt x="41" y="18"/>
                </a:lnTo>
                <a:lnTo>
                  <a:pt x="41" y="1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511280" y="3687480"/>
            <a:ext cx="760320" cy="11761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76360" y="3632040"/>
            <a:ext cx="69840" cy="87480"/>
          </a:xfrm>
          <a:custGeom>
            <a:avLst/>
            <a:gdLst/>
            <a:ahLst/>
            <a:rect l="l" t="t" r="r" b="b"/>
            <a:pathLst>
              <a:path w="44" h="55">
                <a:moveTo>
                  <a:pt x="8" y="55"/>
                </a:moveTo>
                <a:lnTo>
                  <a:pt x="0" y="0"/>
                </a:lnTo>
                <a:lnTo>
                  <a:pt x="44" y="26"/>
                </a:lnTo>
                <a:lnTo>
                  <a:pt x="8" y="55"/>
                </a:lnTo>
                <a:lnTo>
                  <a:pt x="8" y="5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7462800" y="3672000"/>
            <a:ext cx="238320" cy="1440"/>
          </a:xfrm>
          <a:prstGeom prst="line">
            <a:avLst/>
          </a:prstGeom>
          <a:ln w="46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402680" y="3630600"/>
            <a:ext cx="71280" cy="79560"/>
          </a:xfrm>
          <a:custGeom>
            <a:avLst/>
            <a:gdLst/>
            <a:ahLst/>
            <a:rect l="l" t="t" r="r" b="b"/>
            <a:pathLst>
              <a:path w="45" h="50">
                <a:moveTo>
                  <a:pt x="45" y="50"/>
                </a:moveTo>
                <a:lnTo>
                  <a:pt x="0" y="26"/>
                </a:lnTo>
                <a:lnTo>
                  <a:pt x="45" y="0"/>
                </a:lnTo>
                <a:lnTo>
                  <a:pt x="45" y="50"/>
                </a:lnTo>
                <a:lnTo>
                  <a:pt x="45" y="5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437960" y="4348080"/>
            <a:ext cx="132660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C mit Brows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1557000" y="2563920"/>
            <a:ext cx="757080" cy="1077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17760" y="3608280"/>
            <a:ext cx="73080" cy="87480"/>
          </a:xfrm>
          <a:custGeom>
            <a:avLst/>
            <a:gdLst/>
            <a:ahLst/>
            <a:rect l="l" t="t" r="r" b="b"/>
            <a:pathLst>
              <a:path w="46" h="55">
                <a:moveTo>
                  <a:pt x="46" y="31"/>
                </a:moveTo>
                <a:lnTo>
                  <a:pt x="0" y="55"/>
                </a:lnTo>
                <a:lnTo>
                  <a:pt x="10" y="0"/>
                </a:lnTo>
                <a:lnTo>
                  <a:pt x="46" y="31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3833640" y="2575080"/>
            <a:ext cx="387360" cy="1064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3760" y="2506680"/>
            <a:ext cx="66600" cy="90360"/>
          </a:xfrm>
          <a:custGeom>
            <a:avLst/>
            <a:gdLst/>
            <a:ahLst/>
            <a:rect l="l" t="t" r="r" b="b"/>
            <a:pathLst>
              <a:path w="42" h="57">
                <a:moveTo>
                  <a:pt x="0" y="57"/>
                </a:moveTo>
                <a:lnTo>
                  <a:pt x="4" y="0"/>
                </a:lnTo>
                <a:lnTo>
                  <a:pt x="42" y="38"/>
                </a:lnTo>
                <a:lnTo>
                  <a:pt x="0" y="57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0920" y="403200"/>
            <a:ext cx="76960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Prinzipschema für die Lösungsvariante      „Dynamische Webseiten“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533520" y="1052640"/>
            <a:ext cx="8076960" cy="4968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75280" y="3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74560" y="260280"/>
            <a:ext cx="621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ösungsprinzipien für einen Web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ynamische Webseit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3500280"/>
            <a:ext cx="6248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052640"/>
            <a:ext cx="70102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Zugriff auf die ORACLE-Datenbank über den zentralen WWW-Server des U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Nutzung von Java-Komponenten  für „Durchstieg“ durch die 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4360" y="3357720"/>
            <a:ext cx="756108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Nach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Rahmenbedingungen von BundOnline2005 nur eingeschränkt erfüll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XML-Daten für Export und Schnittstellen (GEIN, vUDK) müssen aus Oracle-Datenbank erstell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549360"/>
            <a:ext cx="8153280" cy="5472000"/>
          </a:xfrm>
          <a:prstGeom prst="rect">
            <a:avLst/>
          </a:prstGeom>
          <a:solidFill>
            <a:srgbClr val="3333cc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628640"/>
            <a:ext cx="76960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Auftrag an die Bund/Länder-Arbeitsgruppe DIOX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Verbesserung des Datenmanagements durch d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 </a:t>
            </a:r>
            <a:r>
              <a:rPr b="1" i="1" lang="de-DE" sz="2000" spc="-1" strike="noStrike">
                <a:solidFill>
                  <a:srgbClr val="ff9900"/>
                </a:solidFill>
                <a:latin typeface="Arial"/>
              </a:rPr>
              <a:t>„</a:t>
            </a:r>
            <a:r>
              <a:rPr b="1" i="1" lang="de-DE" sz="2000" spc="-1" strike="noStrike">
                <a:solidFill>
                  <a:srgbClr val="ff9900"/>
                </a:solidFill>
                <a:latin typeface="Arial"/>
              </a:rPr>
              <a:t>zentrale Dokumentation und Auswertung von Ergebnissen von Untersuchungsprogrammen zur Dioxinbelastung der Umwelt, die durch Bund und Länder initiiert werden“</a:t>
            </a:r>
            <a:r>
              <a:rPr b="0" lang="de-DE" sz="1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ufbau eines zentralen Datenbanksystems im UBA unter Beteiligung des ehemaligen Bundesinstituts für gesundheitlichen Verbraucherschutz und Veterinärmedizi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280" y="762120"/>
            <a:ext cx="75438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Beschluß der 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37. Umweltministerkonferenz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60600" y="-108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Grundlagen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1413000"/>
            <a:ext cx="7274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1557360"/>
            <a:ext cx="720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urora BdCn BT"/>
              </a:rPr>
              <a:t>Startseite für Nutzergruppe Öffentlichkeit</a:t>
            </a:r>
            <a:r>
              <a:rPr b="1" lang="en-US" sz="2000" spc="-1" strike="noStrike">
                <a:solidFill>
                  <a:srgbClr val="000000"/>
                </a:solidFill>
                <a:latin typeface="Aurora BdCn BT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416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urora BdCn BT"/>
              </a:rPr>
              <a:t>Datenangebot für Nutzergruppe Öffentlichkeit</a:t>
            </a:r>
            <a:r>
              <a:rPr b="1" lang="en-US" sz="2000" spc="-1" strike="noStrike">
                <a:solidFill>
                  <a:srgbClr val="000000"/>
                </a:solidFill>
                <a:latin typeface="Aurora BdCn BT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647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urora BdCn BT"/>
              </a:rPr>
              <a:t>Recherchemöglichkeit für Nutzergruppe Öffentlichkeit</a:t>
            </a:r>
            <a:r>
              <a:rPr b="1" lang="en-US" sz="2000" spc="-1" strike="noStrike">
                <a:solidFill>
                  <a:srgbClr val="000000"/>
                </a:solidFill>
                <a:latin typeface="Aurora BdCn BT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urora BdCn BT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468360" y="785880"/>
            <a:ext cx="799128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608760" y="1413000"/>
            <a:ext cx="8108280" cy="4593600"/>
            <a:chOff x="608760" y="1413000"/>
            <a:chExt cx="8108280" cy="4593600"/>
          </a:xfrm>
        </p:grpSpPr>
        <p:pic>
          <p:nvPicPr>
            <p:cNvPr id="508" name="" descr=""/>
            <p:cNvPicPr/>
            <p:nvPr/>
          </p:nvPicPr>
          <p:blipFill>
            <a:blip r:embed="rId1"/>
            <a:srcRect l="29038" t="22395" r="25261" b="35940"/>
            <a:stretch/>
          </p:blipFill>
          <p:spPr>
            <a:xfrm>
              <a:off x="1050840" y="1917720"/>
              <a:ext cx="4457880" cy="304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9" name=""/>
            <p:cNvGrpSpPr/>
            <p:nvPr/>
          </p:nvGrpSpPr>
          <p:grpSpPr>
            <a:xfrm>
              <a:off x="2359080" y="1413000"/>
              <a:ext cx="1396800" cy="3180600"/>
              <a:chOff x="2359080" y="1413000"/>
              <a:chExt cx="1396800" cy="3180600"/>
            </a:xfrm>
          </p:grpSpPr>
          <p:sp>
            <p:nvSpPr>
              <p:cNvPr id="510" name=""/>
              <p:cNvSpPr/>
              <p:nvPr/>
            </p:nvSpPr>
            <p:spPr>
              <a:xfrm>
                <a:off x="2359080" y="2016000"/>
                <a:ext cx="1396800" cy="257760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02160" y="1413000"/>
                <a:ext cx="7675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Verdana"/>
                  </a:rPr>
                  <a:t>Apache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Verdana"/>
                  </a:rPr>
                  <a:t>Tomc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Verdana"/>
                  </a:rPr>
                  <a:t>XER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1647720" y="1442880"/>
              <a:ext cx="3724200" cy="3535200"/>
              <a:chOff x="1647720" y="1442880"/>
              <a:chExt cx="3724200" cy="3535200"/>
            </a:xfrm>
          </p:grpSpPr>
          <p:sp>
            <p:nvSpPr>
              <p:cNvPr id="513" name=""/>
              <p:cNvSpPr/>
              <p:nvPr/>
            </p:nvSpPr>
            <p:spPr>
              <a:xfrm>
                <a:off x="4276800" y="2082600"/>
                <a:ext cx="1079280" cy="25020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266000" y="1442880"/>
                <a:ext cx="1105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Verdana"/>
                  </a:rPr>
                  <a:t>XML-DB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Verdana"/>
                  </a:rPr>
                  <a:t>Open Sour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647720" y="4673520"/>
                <a:ext cx="3416400" cy="304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3591000" y="3035160"/>
              <a:ext cx="863640" cy="431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Verdana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41520" y="4495680"/>
              <a:ext cx="717552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6200000">
              <a:off x="1794240" y="3174120"/>
              <a:ext cx="1949040" cy="337320"/>
            </a:xfrm>
            <a:prstGeom prst="rect">
              <a:avLst/>
            </a:prstGeom>
            <a:solidFill>
              <a:srgbClr val="080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Stylesheeds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2326680" y="3189240"/>
              <a:ext cx="1949040" cy="307080"/>
            </a:xfrm>
            <a:prstGeom prst="rect">
              <a:avLst/>
            </a:prstGeom>
            <a:solidFill>
              <a:srgbClr val="080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XPAth, Open  Sou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6200000">
              <a:off x="3890520" y="3190680"/>
              <a:ext cx="1949400" cy="307080"/>
            </a:xfrm>
            <a:prstGeom prst="rect">
              <a:avLst/>
            </a:prstGeom>
            <a:solidFill>
              <a:srgbClr val="080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MS-XML 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294880" y="2400120"/>
              <a:ext cx="3344400" cy="1604520"/>
              <a:chOff x="5294880" y="2400120"/>
              <a:chExt cx="3344400" cy="160452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6446880" y="2966400"/>
                <a:ext cx="1297080" cy="970200"/>
                <a:chOff x="6446880" y="2966400"/>
                <a:chExt cx="1297080" cy="970200"/>
              </a:xfrm>
            </p:grpSpPr>
            <p:grpSp>
              <p:nvGrpSpPr>
                <p:cNvPr id="523" name=""/>
                <p:cNvGrpSpPr/>
                <p:nvPr/>
              </p:nvGrpSpPr>
              <p:grpSpPr>
                <a:xfrm>
                  <a:off x="6446880" y="2966400"/>
                  <a:ext cx="798480" cy="659520"/>
                  <a:chOff x="6446880" y="2966400"/>
                  <a:chExt cx="798480" cy="65952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6471720" y="3263040"/>
                    <a:ext cx="258840" cy="155880"/>
                  </a:xfrm>
                  <a:prstGeom prst="ellips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6446880" y="3159720"/>
                    <a:ext cx="210240" cy="124560"/>
                  </a:xfrm>
                  <a:prstGeom prst="ellips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6667560" y="2966400"/>
                    <a:ext cx="333360" cy="199080"/>
                  </a:xfrm>
                  <a:prstGeom prst="ellipse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6813360" y="3322440"/>
                    <a:ext cx="383400" cy="228960"/>
                  </a:xfrm>
                  <a:prstGeom prst="ellipse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6863040" y="3056040"/>
                    <a:ext cx="284040" cy="170640"/>
                  </a:xfrm>
                  <a:prstGeom prst="ellipse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6887880" y="3485520"/>
                    <a:ext cx="210600" cy="125640"/>
                  </a:xfrm>
                  <a:prstGeom prst="ellips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6715800" y="3500280"/>
                    <a:ext cx="210240" cy="125640"/>
                  </a:xfrm>
                  <a:prstGeom prst="ellips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6521400" y="3365280"/>
                    <a:ext cx="332280" cy="201960"/>
                  </a:xfrm>
                  <a:prstGeom prst="ellipse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6912720" y="3188880"/>
                    <a:ext cx="332640" cy="199800"/>
                  </a:xfrm>
                  <a:prstGeom prst="ellipse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6545160" y="2981160"/>
                    <a:ext cx="259200" cy="154800"/>
                  </a:xfrm>
                  <a:prstGeom prst="ellipse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446880" y="3040560"/>
                    <a:ext cx="234000" cy="140400"/>
                  </a:xfrm>
                  <a:prstGeom prst="ellipse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508800" y="3001320"/>
                    <a:ext cx="637200" cy="57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588">
                        <a:moveTo>
                          <a:pt x="57" y="406"/>
                        </a:moveTo>
                        <a:lnTo>
                          <a:pt x="17" y="381"/>
                        </a:lnTo>
                        <a:lnTo>
                          <a:pt x="18" y="272"/>
                        </a:lnTo>
                        <a:lnTo>
                          <a:pt x="0" y="195"/>
                        </a:lnTo>
                        <a:lnTo>
                          <a:pt x="67" y="96"/>
                        </a:lnTo>
                        <a:lnTo>
                          <a:pt x="49" y="48"/>
                        </a:lnTo>
                        <a:lnTo>
                          <a:pt x="57" y="21"/>
                        </a:lnTo>
                        <a:lnTo>
                          <a:pt x="223" y="15"/>
                        </a:lnTo>
                        <a:lnTo>
                          <a:pt x="250" y="0"/>
                        </a:lnTo>
                        <a:lnTo>
                          <a:pt x="379" y="45"/>
                        </a:lnTo>
                        <a:lnTo>
                          <a:pt x="291" y="94"/>
                        </a:lnTo>
                        <a:lnTo>
                          <a:pt x="336" y="108"/>
                        </a:lnTo>
                        <a:lnTo>
                          <a:pt x="513" y="178"/>
                        </a:lnTo>
                        <a:lnTo>
                          <a:pt x="562" y="409"/>
                        </a:lnTo>
                        <a:lnTo>
                          <a:pt x="527" y="530"/>
                        </a:lnTo>
                        <a:lnTo>
                          <a:pt x="417" y="568"/>
                        </a:lnTo>
                        <a:lnTo>
                          <a:pt x="303" y="568"/>
                        </a:lnTo>
                        <a:lnTo>
                          <a:pt x="210" y="587"/>
                        </a:lnTo>
                        <a:lnTo>
                          <a:pt x="57" y="406"/>
                        </a:lnTo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6" name=""/>
                <p:cNvSpPr/>
                <p:nvPr/>
              </p:nvSpPr>
              <p:spPr>
                <a:xfrm>
                  <a:off x="6565680" y="3117600"/>
                  <a:ext cx="1178280" cy="81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3333cc"/>
                      </a:solidFill>
                      <a:latin typeface="Verdana"/>
                    </a:rPr>
                    <a:t>Intran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7427520" y="2400120"/>
                <a:ext cx="1211760" cy="1604520"/>
                <a:chOff x="7427520" y="2400120"/>
                <a:chExt cx="1211760" cy="1604520"/>
              </a:xfrm>
            </p:grpSpPr>
            <p:pic>
              <p:nvPicPr>
                <p:cNvPr id="53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491600" y="2400120"/>
                  <a:ext cx="1147680" cy="1604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39" name=""/>
                <p:cNvGrpSpPr/>
                <p:nvPr/>
              </p:nvGrpSpPr>
              <p:grpSpPr>
                <a:xfrm>
                  <a:off x="7427520" y="3037680"/>
                  <a:ext cx="972360" cy="763920"/>
                  <a:chOff x="7427520" y="3037680"/>
                  <a:chExt cx="972360" cy="76392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7540560" y="3037680"/>
                    <a:ext cx="647640" cy="632520"/>
                    <a:chOff x="7540560" y="3037680"/>
                    <a:chExt cx="647640" cy="63252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7546680" y="3240720"/>
                      <a:ext cx="635400" cy="3333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1d354"/>
                        </a:gs>
                        <a:gs pos="100000">
                          <a:srgbClr val="eaec5e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7540560" y="3143520"/>
                      <a:ext cx="647640" cy="430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1d354"/>
                        </a:gs>
                        <a:gs pos="100000">
                          <a:srgbClr val="eaec5e"/>
                        </a:gs>
                      </a:gsLst>
                      <a:lin ang="10800000"/>
                    </a:gradFill>
                    <a:ln w="0">
                      <a:noFill/>
                    </a:ln>
                    <a:effectLst>
                      <a:outerShdw dist="107932" dir="2700000" blurRad="0" rotWithShape="0">
                        <a:srgbClr val="3333c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7540560" y="3472560"/>
                      <a:ext cx="647640" cy="197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1d354"/>
                        </a:gs>
                        <a:gs pos="100000">
                          <a:srgbClr val="eaec5e"/>
                        </a:gs>
                      </a:gsLst>
                      <a:lin ang="10800000"/>
                    </a:gradFill>
                    <a:ln w="0">
                      <a:noFill/>
                    </a:ln>
                    <a:effectLst>
                      <a:outerShdw dist="107932" dir="2700000" blurRad="0" rotWithShape="0">
                        <a:srgbClr val="3333c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7543800" y="3037680"/>
                      <a:ext cx="640800" cy="190800"/>
                    </a:xfrm>
                    <a:prstGeom prst="ellipse">
                      <a:avLst/>
                    </a:prstGeom>
                    <a:solidFill>
                      <a:srgbClr val="eaec5e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5" name=""/>
                  <p:cNvSpPr/>
                  <p:nvPr/>
                </p:nvSpPr>
                <p:spPr>
                  <a:xfrm>
                    <a:off x="7427520" y="3286440"/>
                    <a:ext cx="972360" cy="51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ORACLE-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B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6" name=""/>
              <p:cNvGrpSpPr/>
              <p:nvPr/>
            </p:nvGrpSpPr>
            <p:grpSpPr>
              <a:xfrm>
                <a:off x="5294880" y="2780640"/>
                <a:ext cx="2231640" cy="1104120"/>
                <a:chOff x="5294880" y="2780640"/>
                <a:chExt cx="2231640" cy="11041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5365800" y="3380400"/>
                  <a:ext cx="2160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8" name=""/>
                <p:cNvGrpSpPr/>
                <p:nvPr/>
              </p:nvGrpSpPr>
              <p:grpSpPr>
                <a:xfrm>
                  <a:off x="5509080" y="2780640"/>
                  <a:ext cx="1332720" cy="1104120"/>
                  <a:chOff x="5509080" y="2780640"/>
                  <a:chExt cx="1332720" cy="1104120"/>
                </a:xfrm>
              </p:grpSpPr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5712120" y="2780640"/>
                    <a:ext cx="857160" cy="911520"/>
                    <a:chOff x="5712120" y="2780640"/>
                    <a:chExt cx="857160" cy="911520"/>
                  </a:xfrm>
                </p:grpSpPr>
                <p:pic>
                  <p:nvPicPr>
                    <p:cNvPr id="55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902920" y="3157920"/>
                      <a:ext cx="360360" cy="53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551" name=""/>
                    <p:cNvGrpSpPr/>
                    <p:nvPr/>
                  </p:nvGrpSpPr>
                  <p:grpSpPr>
                    <a:xfrm>
                      <a:off x="5712120" y="2780640"/>
                      <a:ext cx="857160" cy="596880"/>
                      <a:chOff x="5712120" y="2780640"/>
                      <a:chExt cx="857160" cy="596880"/>
                    </a:xfrm>
                  </p:grpSpPr>
                  <p:sp>
                    <p:nvSpPr>
                      <p:cNvPr id="552" name=""/>
                      <p:cNvSpPr/>
                      <p:nvPr/>
                    </p:nvSpPr>
                    <p:spPr>
                      <a:xfrm>
                        <a:off x="5712120" y="2780640"/>
                        <a:ext cx="857160" cy="59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2" h="630">
                            <a:moveTo>
                              <a:pt x="240" y="495"/>
                            </a:moveTo>
                            <a:lnTo>
                              <a:pt x="215" y="495"/>
                            </a:lnTo>
                            <a:lnTo>
                              <a:pt x="190" y="493"/>
                            </a:lnTo>
                            <a:lnTo>
                              <a:pt x="164" y="486"/>
                            </a:lnTo>
                            <a:lnTo>
                              <a:pt x="140" y="474"/>
                            </a:lnTo>
                            <a:lnTo>
                              <a:pt x="118" y="459"/>
                            </a:lnTo>
                            <a:lnTo>
                              <a:pt x="100" y="439"/>
                            </a:lnTo>
                            <a:lnTo>
                              <a:pt x="91" y="416"/>
                            </a:lnTo>
                            <a:lnTo>
                              <a:pt x="88" y="389"/>
                            </a:lnTo>
                            <a:lnTo>
                              <a:pt x="90" y="363"/>
                            </a:lnTo>
                            <a:lnTo>
                              <a:pt x="88" y="343"/>
                            </a:lnTo>
                            <a:lnTo>
                              <a:pt x="84" y="328"/>
                            </a:lnTo>
                            <a:lnTo>
                              <a:pt x="78" y="314"/>
                            </a:lnTo>
                            <a:lnTo>
                              <a:pt x="70" y="303"/>
                            </a:lnTo>
                            <a:lnTo>
                              <a:pt x="58" y="294"/>
                            </a:lnTo>
                            <a:lnTo>
                              <a:pt x="44" y="283"/>
                            </a:lnTo>
                            <a:lnTo>
                              <a:pt x="29" y="271"/>
                            </a:lnTo>
                            <a:lnTo>
                              <a:pt x="14" y="254"/>
                            </a:lnTo>
                            <a:lnTo>
                              <a:pt x="5" y="235"/>
                            </a:lnTo>
                            <a:lnTo>
                              <a:pt x="0" y="212"/>
                            </a:lnTo>
                            <a:lnTo>
                              <a:pt x="2" y="188"/>
                            </a:lnTo>
                            <a:lnTo>
                              <a:pt x="8" y="163"/>
                            </a:lnTo>
                            <a:lnTo>
                              <a:pt x="20" y="140"/>
                            </a:lnTo>
                            <a:lnTo>
                              <a:pt x="38" y="118"/>
                            </a:lnTo>
                            <a:lnTo>
                              <a:pt x="62" y="101"/>
                            </a:lnTo>
                            <a:lnTo>
                              <a:pt x="58" y="121"/>
                            </a:lnTo>
                            <a:lnTo>
                              <a:pt x="58" y="144"/>
                            </a:lnTo>
                            <a:lnTo>
                              <a:pt x="64" y="166"/>
                            </a:lnTo>
                            <a:lnTo>
                              <a:pt x="75" y="188"/>
                            </a:lnTo>
                            <a:lnTo>
                              <a:pt x="91" y="205"/>
                            </a:lnTo>
                            <a:lnTo>
                              <a:pt x="114" y="219"/>
                            </a:lnTo>
                            <a:lnTo>
                              <a:pt x="144" y="229"/>
                            </a:lnTo>
                            <a:lnTo>
                              <a:pt x="181" y="230"/>
                            </a:lnTo>
                            <a:lnTo>
                              <a:pt x="182" y="204"/>
                            </a:lnTo>
                            <a:lnTo>
                              <a:pt x="188" y="181"/>
                            </a:lnTo>
                            <a:lnTo>
                              <a:pt x="199" y="159"/>
                            </a:lnTo>
                            <a:lnTo>
                              <a:pt x="214" y="140"/>
                            </a:lnTo>
                            <a:lnTo>
                              <a:pt x="234" y="125"/>
                            </a:lnTo>
                            <a:lnTo>
                              <a:pt x="258" y="113"/>
                            </a:lnTo>
                            <a:lnTo>
                              <a:pt x="288" y="105"/>
                            </a:lnTo>
                            <a:lnTo>
                              <a:pt x="325" y="101"/>
                            </a:lnTo>
                            <a:lnTo>
                              <a:pt x="302" y="116"/>
                            </a:lnTo>
                            <a:lnTo>
                              <a:pt x="285" y="132"/>
                            </a:lnTo>
                            <a:lnTo>
                              <a:pt x="278" y="148"/>
                            </a:lnTo>
                            <a:lnTo>
                              <a:pt x="273" y="163"/>
                            </a:lnTo>
                            <a:lnTo>
                              <a:pt x="275" y="178"/>
                            </a:lnTo>
                            <a:lnTo>
                              <a:pt x="278" y="193"/>
                            </a:lnTo>
                            <a:lnTo>
                              <a:pt x="284" y="207"/>
                            </a:lnTo>
                            <a:lnTo>
                              <a:pt x="291" y="218"/>
                            </a:lnTo>
                            <a:lnTo>
                              <a:pt x="303" y="229"/>
                            </a:lnTo>
                            <a:lnTo>
                              <a:pt x="323" y="237"/>
                            </a:lnTo>
                            <a:lnTo>
                              <a:pt x="349" y="246"/>
                            </a:lnTo>
                            <a:lnTo>
                              <a:pt x="376" y="256"/>
                            </a:lnTo>
                            <a:lnTo>
                              <a:pt x="402" y="267"/>
                            </a:lnTo>
                            <a:lnTo>
                              <a:pt x="425" y="282"/>
                            </a:lnTo>
                            <a:lnTo>
                              <a:pt x="443" y="301"/>
                            </a:lnTo>
                            <a:lnTo>
                              <a:pt x="450" y="324"/>
                            </a:lnTo>
                            <a:lnTo>
                              <a:pt x="460" y="306"/>
                            </a:lnTo>
                            <a:lnTo>
                              <a:pt x="469" y="294"/>
                            </a:lnTo>
                            <a:lnTo>
                              <a:pt x="478" y="284"/>
                            </a:lnTo>
                            <a:lnTo>
                              <a:pt x="487" y="276"/>
                            </a:lnTo>
                            <a:lnTo>
                              <a:pt x="494" y="269"/>
                            </a:lnTo>
                            <a:lnTo>
                              <a:pt x="503" y="263"/>
                            </a:lnTo>
                            <a:lnTo>
                              <a:pt x="513" y="253"/>
                            </a:lnTo>
                            <a:lnTo>
                              <a:pt x="522" y="242"/>
                            </a:lnTo>
                            <a:lnTo>
                              <a:pt x="526" y="230"/>
                            </a:lnTo>
                            <a:lnTo>
                              <a:pt x="520" y="218"/>
                            </a:lnTo>
                            <a:lnTo>
                              <a:pt x="508" y="205"/>
                            </a:lnTo>
                            <a:lnTo>
                              <a:pt x="497" y="190"/>
                            </a:lnTo>
                            <a:lnTo>
                              <a:pt x="490" y="173"/>
                            </a:lnTo>
                            <a:lnTo>
                              <a:pt x="493" y="152"/>
                            </a:lnTo>
                            <a:lnTo>
                              <a:pt x="508" y="127"/>
                            </a:lnTo>
                            <a:lnTo>
                              <a:pt x="541" y="94"/>
                            </a:lnTo>
                            <a:lnTo>
                              <a:pt x="581" y="64"/>
                            </a:lnTo>
                            <a:lnTo>
                              <a:pt x="613" y="44"/>
                            </a:lnTo>
                            <a:lnTo>
                              <a:pt x="637" y="30"/>
                            </a:lnTo>
                            <a:lnTo>
                              <a:pt x="655" y="23"/>
                            </a:lnTo>
                            <a:lnTo>
                              <a:pt x="667" y="20"/>
                            </a:lnTo>
                            <a:lnTo>
                              <a:pt x="675" y="20"/>
                            </a:lnTo>
                            <a:lnTo>
                              <a:pt x="678" y="22"/>
                            </a:lnTo>
                            <a:lnTo>
                              <a:pt x="679" y="23"/>
                            </a:lnTo>
                            <a:lnTo>
                              <a:pt x="663" y="33"/>
                            </a:lnTo>
                            <a:lnTo>
                              <a:pt x="649" y="45"/>
                            </a:lnTo>
                            <a:lnTo>
                              <a:pt x="637" y="57"/>
                            </a:lnTo>
                            <a:lnTo>
                              <a:pt x="628" y="71"/>
                            </a:lnTo>
                            <a:lnTo>
                              <a:pt x="622" y="84"/>
                            </a:lnTo>
                            <a:lnTo>
                              <a:pt x="620" y="99"/>
                            </a:lnTo>
                            <a:lnTo>
                              <a:pt x="625" y="112"/>
                            </a:lnTo>
                            <a:lnTo>
                              <a:pt x="634" y="124"/>
                            </a:lnTo>
                            <a:lnTo>
                              <a:pt x="647" y="136"/>
                            </a:lnTo>
                            <a:lnTo>
                              <a:pt x="663" y="150"/>
                            </a:lnTo>
                            <a:lnTo>
                              <a:pt x="676" y="166"/>
                            </a:lnTo>
                            <a:lnTo>
                              <a:pt x="688" y="184"/>
                            </a:lnTo>
                            <a:lnTo>
                              <a:pt x="698" y="203"/>
                            </a:lnTo>
                            <a:lnTo>
                              <a:pt x="699" y="223"/>
                            </a:lnTo>
                            <a:lnTo>
                              <a:pt x="694" y="244"/>
                            </a:lnTo>
                            <a:lnTo>
                              <a:pt x="679" y="265"/>
                            </a:lnTo>
                            <a:lnTo>
                              <a:pt x="664" y="286"/>
                            </a:lnTo>
                            <a:lnTo>
                              <a:pt x="657" y="303"/>
                            </a:lnTo>
                            <a:lnTo>
                              <a:pt x="657" y="318"/>
                            </a:lnTo>
                            <a:lnTo>
                              <a:pt x="661" y="332"/>
                            </a:lnTo>
                            <a:lnTo>
                              <a:pt x="672" y="344"/>
                            </a:lnTo>
                            <a:lnTo>
                              <a:pt x="687" y="355"/>
                            </a:lnTo>
                            <a:lnTo>
                              <a:pt x="705" y="366"/>
                            </a:lnTo>
                            <a:lnTo>
                              <a:pt x="726" y="377"/>
                            </a:lnTo>
                            <a:lnTo>
                              <a:pt x="720" y="365"/>
                            </a:lnTo>
                            <a:lnTo>
                              <a:pt x="719" y="356"/>
                            </a:lnTo>
                            <a:lnTo>
                              <a:pt x="720" y="348"/>
                            </a:lnTo>
                            <a:lnTo>
                              <a:pt x="726" y="343"/>
                            </a:lnTo>
                            <a:lnTo>
                              <a:pt x="734" y="336"/>
                            </a:lnTo>
                            <a:lnTo>
                              <a:pt x="746" y="331"/>
                            </a:lnTo>
                            <a:lnTo>
                              <a:pt x="761" y="322"/>
                            </a:lnTo>
                            <a:lnTo>
                              <a:pt x="779" y="313"/>
                            </a:lnTo>
                            <a:lnTo>
                              <a:pt x="798" y="299"/>
                            </a:lnTo>
                            <a:lnTo>
                              <a:pt x="811" y="283"/>
                            </a:lnTo>
                            <a:lnTo>
                              <a:pt x="822" y="264"/>
                            </a:lnTo>
                            <a:lnTo>
                              <a:pt x="828" y="245"/>
                            </a:lnTo>
                            <a:lnTo>
                              <a:pt x="831" y="226"/>
                            </a:lnTo>
                            <a:lnTo>
                              <a:pt x="831" y="207"/>
                            </a:lnTo>
                            <a:lnTo>
                              <a:pt x="826" y="190"/>
                            </a:lnTo>
                            <a:lnTo>
                              <a:pt x="819" y="177"/>
                            </a:lnTo>
                            <a:lnTo>
                              <a:pt x="843" y="186"/>
                            </a:lnTo>
                            <a:lnTo>
                              <a:pt x="866" y="199"/>
                            </a:lnTo>
                            <a:lnTo>
                              <a:pt x="885" y="215"/>
                            </a:lnTo>
                            <a:lnTo>
                              <a:pt x="904" y="234"/>
                            </a:lnTo>
                            <a:lnTo>
                              <a:pt x="917" y="254"/>
                            </a:lnTo>
                            <a:lnTo>
                              <a:pt x="926" y="276"/>
                            </a:lnTo>
                            <a:lnTo>
                              <a:pt x="929" y="298"/>
                            </a:lnTo>
                            <a:lnTo>
                              <a:pt x="928" y="318"/>
                            </a:lnTo>
                            <a:lnTo>
                              <a:pt x="952" y="308"/>
                            </a:lnTo>
                            <a:lnTo>
                              <a:pt x="981" y="295"/>
                            </a:lnTo>
                            <a:lnTo>
                              <a:pt x="1008" y="282"/>
                            </a:lnTo>
                            <a:lnTo>
                              <a:pt x="1033" y="263"/>
                            </a:lnTo>
                            <a:lnTo>
                              <a:pt x="1049" y="239"/>
                            </a:lnTo>
                            <a:lnTo>
                              <a:pt x="1055" y="210"/>
                            </a:lnTo>
                            <a:lnTo>
                              <a:pt x="1049" y="171"/>
                            </a:lnTo>
                            <a:lnTo>
                              <a:pt x="1026" y="124"/>
                            </a:lnTo>
                            <a:lnTo>
                              <a:pt x="1054" y="136"/>
                            </a:lnTo>
                            <a:lnTo>
                              <a:pt x="1081" y="154"/>
                            </a:lnTo>
                            <a:lnTo>
                              <a:pt x="1105" y="177"/>
                            </a:lnTo>
                            <a:lnTo>
                              <a:pt x="1125" y="205"/>
                            </a:lnTo>
                            <a:lnTo>
                              <a:pt x="1139" y="238"/>
                            </a:lnTo>
                            <a:lnTo>
                              <a:pt x="1143" y="273"/>
                            </a:lnTo>
                            <a:lnTo>
                              <a:pt x="1137" y="313"/>
                            </a:lnTo>
                            <a:lnTo>
                              <a:pt x="1119" y="354"/>
                            </a:lnTo>
                            <a:lnTo>
                              <a:pt x="1137" y="333"/>
                            </a:lnTo>
                            <a:lnTo>
                              <a:pt x="1154" y="314"/>
                            </a:lnTo>
                            <a:lnTo>
                              <a:pt x="1167" y="299"/>
                            </a:lnTo>
                            <a:lnTo>
                              <a:pt x="1180" y="284"/>
                            </a:lnTo>
                            <a:lnTo>
                              <a:pt x="1192" y="272"/>
                            </a:lnTo>
                            <a:lnTo>
                              <a:pt x="1204" y="261"/>
                            </a:lnTo>
                            <a:lnTo>
                              <a:pt x="1217" y="252"/>
                            </a:lnTo>
                            <a:lnTo>
                              <a:pt x="1231" y="242"/>
                            </a:lnTo>
                            <a:lnTo>
                              <a:pt x="1245" y="230"/>
                            </a:lnTo>
                            <a:lnTo>
                              <a:pt x="1254" y="211"/>
                            </a:lnTo>
                            <a:lnTo>
                              <a:pt x="1260" y="188"/>
                            </a:lnTo>
                            <a:lnTo>
                              <a:pt x="1260" y="165"/>
                            </a:lnTo>
                            <a:lnTo>
                              <a:pt x="1257" y="142"/>
                            </a:lnTo>
                            <a:lnTo>
                              <a:pt x="1248" y="121"/>
                            </a:lnTo>
                            <a:lnTo>
                              <a:pt x="1233" y="107"/>
                            </a:lnTo>
                            <a:lnTo>
                              <a:pt x="1211" y="101"/>
                            </a:lnTo>
                            <a:lnTo>
                              <a:pt x="1240" y="102"/>
                            </a:lnTo>
                            <a:lnTo>
                              <a:pt x="1267" y="112"/>
                            </a:lnTo>
                            <a:lnTo>
                              <a:pt x="1293" y="128"/>
                            </a:lnTo>
                            <a:lnTo>
                              <a:pt x="1311" y="151"/>
                            </a:lnTo>
                            <a:lnTo>
                              <a:pt x="1322" y="181"/>
                            </a:lnTo>
                            <a:lnTo>
                              <a:pt x="1319" y="216"/>
                            </a:lnTo>
                            <a:lnTo>
                              <a:pt x="1301" y="256"/>
                            </a:lnTo>
                            <a:lnTo>
                              <a:pt x="1264" y="301"/>
                            </a:lnTo>
                            <a:lnTo>
                              <a:pt x="1289" y="297"/>
                            </a:lnTo>
                            <a:lnTo>
                              <a:pt x="1314" y="283"/>
                            </a:lnTo>
                            <a:lnTo>
                              <a:pt x="1340" y="263"/>
                            </a:lnTo>
                            <a:lnTo>
                              <a:pt x="1361" y="238"/>
                            </a:lnTo>
                            <a:lnTo>
                              <a:pt x="1377" y="210"/>
                            </a:lnTo>
                            <a:lnTo>
                              <a:pt x="1383" y="180"/>
                            </a:lnTo>
                            <a:lnTo>
                              <a:pt x="1377" y="148"/>
                            </a:lnTo>
                            <a:lnTo>
                              <a:pt x="1355" y="118"/>
                            </a:lnTo>
                            <a:lnTo>
                              <a:pt x="1372" y="125"/>
                            </a:lnTo>
                            <a:lnTo>
                              <a:pt x="1386" y="133"/>
                            </a:lnTo>
                            <a:lnTo>
                              <a:pt x="1398" y="146"/>
                            </a:lnTo>
                            <a:lnTo>
                              <a:pt x="1407" y="158"/>
                            </a:lnTo>
                            <a:lnTo>
                              <a:pt x="1413" y="170"/>
                            </a:lnTo>
                            <a:lnTo>
                              <a:pt x="1418" y="180"/>
                            </a:lnTo>
                            <a:lnTo>
                              <a:pt x="1421" y="186"/>
                            </a:lnTo>
                            <a:lnTo>
                              <a:pt x="1422" y="189"/>
                            </a:lnTo>
                            <a:lnTo>
                              <a:pt x="1434" y="161"/>
                            </a:lnTo>
                            <a:lnTo>
                              <a:pt x="1454" y="135"/>
                            </a:lnTo>
                            <a:lnTo>
                              <a:pt x="1480" y="113"/>
                            </a:lnTo>
                            <a:lnTo>
                              <a:pt x="1505" y="93"/>
                            </a:lnTo>
                            <a:lnTo>
                              <a:pt x="1528" y="72"/>
                            </a:lnTo>
                            <a:lnTo>
                              <a:pt x="1546" y="50"/>
                            </a:lnTo>
                            <a:lnTo>
                              <a:pt x="1557" y="27"/>
                            </a:lnTo>
                            <a:lnTo>
                              <a:pt x="1554" y="0"/>
                            </a:lnTo>
                            <a:lnTo>
                              <a:pt x="1565" y="19"/>
                            </a:lnTo>
                            <a:lnTo>
                              <a:pt x="1571" y="35"/>
                            </a:lnTo>
                            <a:lnTo>
                              <a:pt x="1572" y="50"/>
                            </a:lnTo>
                            <a:lnTo>
                              <a:pt x="1571" y="67"/>
                            </a:lnTo>
                            <a:lnTo>
                              <a:pt x="1565" y="84"/>
                            </a:lnTo>
                            <a:lnTo>
                              <a:pt x="1552" y="105"/>
                            </a:lnTo>
                            <a:lnTo>
                              <a:pt x="1536" y="129"/>
                            </a:lnTo>
                            <a:lnTo>
                              <a:pt x="1515" y="159"/>
                            </a:lnTo>
                            <a:lnTo>
                              <a:pt x="1504" y="189"/>
                            </a:lnTo>
                            <a:lnTo>
                              <a:pt x="1501" y="229"/>
                            </a:lnTo>
                            <a:lnTo>
                              <a:pt x="1504" y="273"/>
                            </a:lnTo>
                            <a:lnTo>
                              <a:pt x="1504" y="318"/>
                            </a:lnTo>
                            <a:lnTo>
                              <a:pt x="1495" y="359"/>
                            </a:lnTo>
                            <a:lnTo>
                              <a:pt x="1474" y="392"/>
                            </a:lnTo>
                            <a:lnTo>
                              <a:pt x="1434" y="412"/>
                            </a:lnTo>
                            <a:lnTo>
                              <a:pt x="1369" y="414"/>
                            </a:lnTo>
                            <a:lnTo>
                              <a:pt x="1366" y="444"/>
                            </a:lnTo>
                            <a:lnTo>
                              <a:pt x="1358" y="476"/>
                            </a:lnTo>
                            <a:lnTo>
                              <a:pt x="1345" y="509"/>
                            </a:lnTo>
                            <a:lnTo>
                              <a:pt x="1325" y="536"/>
                            </a:lnTo>
                            <a:lnTo>
                              <a:pt x="1295" y="558"/>
                            </a:lnTo>
                            <a:lnTo>
                              <a:pt x="1254" y="570"/>
                            </a:lnTo>
                            <a:lnTo>
                              <a:pt x="1201" y="569"/>
                            </a:lnTo>
                            <a:lnTo>
                              <a:pt x="1133" y="554"/>
                            </a:lnTo>
                            <a:lnTo>
                              <a:pt x="1117" y="565"/>
                            </a:lnTo>
                            <a:lnTo>
                              <a:pt x="1099" y="576"/>
                            </a:lnTo>
                            <a:lnTo>
                              <a:pt x="1079" y="585"/>
                            </a:lnTo>
                            <a:lnTo>
                              <a:pt x="1060" y="593"/>
                            </a:lnTo>
                            <a:lnTo>
                              <a:pt x="1039" y="601"/>
                            </a:lnTo>
                            <a:lnTo>
                              <a:pt x="1017" y="607"/>
                            </a:lnTo>
                            <a:lnTo>
                              <a:pt x="996" y="612"/>
                            </a:lnTo>
                            <a:lnTo>
                              <a:pt x="975" y="615"/>
                            </a:lnTo>
                            <a:lnTo>
                              <a:pt x="954" y="616"/>
                            </a:lnTo>
                            <a:lnTo>
                              <a:pt x="934" y="615"/>
                            </a:lnTo>
                            <a:lnTo>
                              <a:pt x="914" y="611"/>
                            </a:lnTo>
                            <a:lnTo>
                              <a:pt x="898" y="604"/>
                            </a:lnTo>
                            <a:lnTo>
                              <a:pt x="882" y="596"/>
                            </a:lnTo>
                            <a:lnTo>
                              <a:pt x="869" y="582"/>
                            </a:lnTo>
                            <a:lnTo>
                              <a:pt x="858" y="567"/>
                            </a:lnTo>
                            <a:lnTo>
                              <a:pt x="851" y="548"/>
                            </a:lnTo>
                            <a:lnTo>
                              <a:pt x="840" y="559"/>
                            </a:lnTo>
                            <a:lnTo>
                              <a:pt x="826" y="571"/>
                            </a:lnTo>
                            <a:lnTo>
                              <a:pt x="810" y="584"/>
                            </a:lnTo>
                            <a:lnTo>
                              <a:pt x="791" y="595"/>
                            </a:lnTo>
                            <a:lnTo>
                              <a:pt x="772" y="604"/>
                            </a:lnTo>
                            <a:lnTo>
                              <a:pt x="751" y="614"/>
                            </a:lnTo>
                            <a:lnTo>
                              <a:pt x="728" y="622"/>
                            </a:lnTo>
                            <a:lnTo>
                              <a:pt x="704" y="627"/>
                            </a:lnTo>
                            <a:lnTo>
                              <a:pt x="679" y="630"/>
                            </a:lnTo>
                            <a:lnTo>
                              <a:pt x="654" y="630"/>
                            </a:lnTo>
                            <a:lnTo>
                              <a:pt x="628" y="626"/>
                            </a:lnTo>
                            <a:lnTo>
                              <a:pt x="602" y="619"/>
                            </a:lnTo>
                            <a:lnTo>
                              <a:pt x="576" y="607"/>
                            </a:lnTo>
                            <a:lnTo>
                              <a:pt x="550" y="591"/>
                            </a:lnTo>
                            <a:lnTo>
                              <a:pt x="526" y="570"/>
                            </a:lnTo>
                            <a:lnTo>
                              <a:pt x="502" y="543"/>
                            </a:lnTo>
                            <a:lnTo>
                              <a:pt x="488" y="546"/>
                            </a:lnTo>
                            <a:lnTo>
                              <a:pt x="473" y="548"/>
                            </a:lnTo>
                            <a:lnTo>
                              <a:pt x="457" y="551"/>
                            </a:lnTo>
                            <a:lnTo>
                              <a:pt x="440" y="555"/>
                            </a:lnTo>
                            <a:lnTo>
                              <a:pt x="422" y="558"/>
                            </a:lnTo>
                            <a:lnTo>
                              <a:pt x="403" y="561"/>
                            </a:lnTo>
                            <a:lnTo>
                              <a:pt x="385" y="562"/>
                            </a:lnTo>
                            <a:lnTo>
                              <a:pt x="367" y="562"/>
                            </a:lnTo>
                            <a:lnTo>
                              <a:pt x="347" y="562"/>
                            </a:lnTo>
                            <a:lnTo>
                              <a:pt x="329" y="559"/>
                            </a:lnTo>
                            <a:lnTo>
                              <a:pt x="313" y="555"/>
                            </a:lnTo>
                            <a:lnTo>
                              <a:pt x="296" y="548"/>
                            </a:lnTo>
                            <a:lnTo>
                              <a:pt x="279" y="540"/>
                            </a:lnTo>
                            <a:lnTo>
                              <a:pt x="266" y="528"/>
                            </a:lnTo>
                            <a:lnTo>
                              <a:pt x="252" y="513"/>
                            </a:lnTo>
                            <a:lnTo>
                              <a:pt x="240" y="495"/>
                            </a:lnTo>
                            <a:close/>
                          </a:path>
                        </a:pathLst>
                      </a:custGeom>
                      <a:solidFill>
                        <a:srgbClr val="f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5978520" y="3106080"/>
                        <a:ext cx="104760" cy="18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8" h="193">
                            <a:moveTo>
                              <a:pt x="74" y="193"/>
                            </a:moveTo>
                            <a:lnTo>
                              <a:pt x="32" y="174"/>
                            </a:lnTo>
                            <a:lnTo>
                              <a:pt x="9" y="154"/>
                            </a:lnTo>
                            <a:lnTo>
                              <a:pt x="0" y="131"/>
                            </a:lnTo>
                            <a:lnTo>
                              <a:pt x="2" y="108"/>
                            </a:lnTo>
                            <a:lnTo>
                              <a:pt x="11" y="82"/>
                            </a:lnTo>
                            <a:lnTo>
                              <a:pt x="21" y="56"/>
                            </a:lnTo>
                            <a:lnTo>
                              <a:pt x="30" y="29"/>
                            </a:lnTo>
                            <a:lnTo>
                              <a:pt x="35" y="0"/>
                            </a:lnTo>
                            <a:lnTo>
                              <a:pt x="47" y="10"/>
                            </a:lnTo>
                            <a:lnTo>
                              <a:pt x="59" y="23"/>
                            </a:lnTo>
                            <a:lnTo>
                              <a:pt x="70" y="37"/>
                            </a:lnTo>
                            <a:lnTo>
                              <a:pt x="79" y="53"/>
                            </a:lnTo>
                            <a:lnTo>
                              <a:pt x="85" y="72"/>
                            </a:lnTo>
                            <a:lnTo>
                              <a:pt x="89" y="91"/>
                            </a:lnTo>
                            <a:lnTo>
                              <a:pt x="93" y="112"/>
                            </a:lnTo>
                            <a:lnTo>
                              <a:pt x="91" y="132"/>
                            </a:lnTo>
                            <a:lnTo>
                              <a:pt x="100" y="121"/>
                            </a:lnTo>
                            <a:lnTo>
                              <a:pt x="112" y="110"/>
                            </a:lnTo>
                            <a:lnTo>
                              <a:pt x="129" y="98"/>
                            </a:lnTo>
                            <a:lnTo>
                              <a:pt x="146" y="84"/>
                            </a:lnTo>
                            <a:lnTo>
                              <a:pt x="161" y="72"/>
                            </a:lnTo>
                            <a:lnTo>
                              <a:pt x="174" y="57"/>
                            </a:lnTo>
                            <a:lnTo>
                              <a:pt x="183" y="42"/>
                            </a:lnTo>
                            <a:lnTo>
                              <a:pt x="186" y="26"/>
                            </a:lnTo>
                            <a:lnTo>
                              <a:pt x="188" y="48"/>
                            </a:lnTo>
                            <a:lnTo>
                              <a:pt x="185" y="69"/>
                            </a:lnTo>
                            <a:lnTo>
                              <a:pt x="179" y="91"/>
                            </a:lnTo>
                            <a:lnTo>
                              <a:pt x="170" y="112"/>
                            </a:lnTo>
                            <a:lnTo>
                              <a:pt x="153" y="133"/>
                            </a:lnTo>
                            <a:lnTo>
                              <a:pt x="133" y="154"/>
                            </a:lnTo>
                            <a:lnTo>
                              <a:pt x="106" y="174"/>
                            </a:lnTo>
                            <a:lnTo>
                              <a:pt x="74" y="193"/>
                            </a:lnTo>
                            <a:close/>
                          </a:path>
                        </a:pathLst>
                      </a:custGeom>
                      <a:solidFill>
                        <a:srgbClr val="ffe5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5887800" y="3077280"/>
                        <a:ext cx="79560" cy="162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172">
                            <a:moveTo>
                              <a:pt x="143" y="163"/>
                            </a:moveTo>
                            <a:lnTo>
                              <a:pt x="125" y="166"/>
                            </a:lnTo>
                            <a:lnTo>
                              <a:pt x="105" y="170"/>
                            </a:lnTo>
                            <a:lnTo>
                              <a:pt x="85" y="172"/>
                            </a:lnTo>
                            <a:lnTo>
                              <a:pt x="66" y="170"/>
                            </a:lnTo>
                            <a:lnTo>
                              <a:pt x="46" y="166"/>
                            </a:lnTo>
                            <a:lnTo>
                              <a:pt x="29" y="157"/>
                            </a:lnTo>
                            <a:lnTo>
                              <a:pt x="14" y="142"/>
                            </a:lnTo>
                            <a:lnTo>
                              <a:pt x="5" y="119"/>
                            </a:lnTo>
                            <a:lnTo>
                              <a:pt x="0" y="94"/>
                            </a:lnTo>
                            <a:lnTo>
                              <a:pt x="0" y="75"/>
                            </a:lnTo>
                            <a:lnTo>
                              <a:pt x="3" y="59"/>
                            </a:lnTo>
                            <a:lnTo>
                              <a:pt x="8" y="45"/>
                            </a:lnTo>
                            <a:lnTo>
                              <a:pt x="12" y="33"/>
                            </a:lnTo>
                            <a:lnTo>
                              <a:pt x="14" y="22"/>
                            </a:lnTo>
                            <a:lnTo>
                              <a:pt x="12" y="11"/>
                            </a:lnTo>
                            <a:lnTo>
                              <a:pt x="5" y="0"/>
                            </a:lnTo>
                            <a:lnTo>
                              <a:pt x="17" y="7"/>
                            </a:lnTo>
                            <a:lnTo>
                              <a:pt x="26" y="15"/>
                            </a:lnTo>
                            <a:lnTo>
                              <a:pt x="37" y="25"/>
                            </a:lnTo>
                            <a:lnTo>
                              <a:pt x="44" y="37"/>
                            </a:lnTo>
                            <a:lnTo>
                              <a:pt x="50" y="49"/>
                            </a:lnTo>
                            <a:lnTo>
                              <a:pt x="53" y="64"/>
                            </a:lnTo>
                            <a:lnTo>
                              <a:pt x="56" y="79"/>
                            </a:lnTo>
                            <a:lnTo>
                              <a:pt x="56" y="95"/>
                            </a:lnTo>
                            <a:lnTo>
                              <a:pt x="58" y="109"/>
                            </a:lnTo>
                            <a:lnTo>
                              <a:pt x="66" y="120"/>
                            </a:lnTo>
                            <a:lnTo>
                              <a:pt x="76" y="127"/>
                            </a:lnTo>
                            <a:lnTo>
                              <a:pt x="90" y="132"/>
                            </a:lnTo>
                            <a:lnTo>
                              <a:pt x="103" y="138"/>
                            </a:lnTo>
                            <a:lnTo>
                              <a:pt x="119" y="144"/>
                            </a:lnTo>
                            <a:lnTo>
                              <a:pt x="132" y="153"/>
                            </a:lnTo>
                            <a:lnTo>
                              <a:pt x="143" y="163"/>
                            </a:lnTo>
                            <a:close/>
                          </a:path>
                        </a:pathLst>
                      </a:custGeom>
                      <a:solidFill>
                        <a:srgbClr val="ffe5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5" name=""/>
                      <p:cNvSpPr/>
                      <p:nvPr/>
                    </p:nvSpPr>
                    <p:spPr>
                      <a:xfrm>
                        <a:off x="6107040" y="3099240"/>
                        <a:ext cx="87840" cy="16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174">
                            <a:moveTo>
                              <a:pt x="0" y="163"/>
                            </a:moveTo>
                            <a:lnTo>
                              <a:pt x="14" y="170"/>
                            </a:lnTo>
                            <a:lnTo>
                              <a:pt x="32" y="174"/>
                            </a:lnTo>
                            <a:lnTo>
                              <a:pt x="53" y="174"/>
                            </a:lnTo>
                            <a:lnTo>
                              <a:pt x="74" y="170"/>
                            </a:lnTo>
                            <a:lnTo>
                              <a:pt x="96" y="163"/>
                            </a:lnTo>
                            <a:lnTo>
                              <a:pt x="114" y="151"/>
                            </a:lnTo>
                            <a:lnTo>
                              <a:pt x="127" y="133"/>
                            </a:lnTo>
                            <a:lnTo>
                              <a:pt x="135" y="109"/>
                            </a:lnTo>
                            <a:lnTo>
                              <a:pt x="140" y="62"/>
                            </a:lnTo>
                            <a:lnTo>
                              <a:pt x="141" y="32"/>
                            </a:lnTo>
                            <a:lnTo>
                              <a:pt x="146" y="13"/>
                            </a:lnTo>
                            <a:lnTo>
                              <a:pt x="158" y="0"/>
                            </a:lnTo>
                            <a:lnTo>
                              <a:pt x="140" y="4"/>
                            </a:lnTo>
                            <a:lnTo>
                              <a:pt x="123" y="12"/>
                            </a:lnTo>
                            <a:lnTo>
                              <a:pt x="109" y="21"/>
                            </a:lnTo>
                            <a:lnTo>
                              <a:pt x="96" y="35"/>
                            </a:lnTo>
                            <a:lnTo>
                              <a:pt x="85" y="49"/>
                            </a:lnTo>
                            <a:lnTo>
                              <a:pt x="74" y="66"/>
                            </a:lnTo>
                            <a:lnTo>
                              <a:pt x="67" y="84"/>
                            </a:lnTo>
                            <a:lnTo>
                              <a:pt x="59" y="103"/>
                            </a:lnTo>
                            <a:lnTo>
                              <a:pt x="53" y="121"/>
                            </a:lnTo>
                            <a:lnTo>
                              <a:pt x="49" y="134"/>
                            </a:lnTo>
                            <a:lnTo>
                              <a:pt x="44" y="144"/>
                            </a:lnTo>
                            <a:lnTo>
                              <a:pt x="38" y="151"/>
                            </a:lnTo>
                            <a:lnTo>
                              <a:pt x="32" y="156"/>
                            </a:lnTo>
                            <a:lnTo>
                              <a:pt x="24" y="160"/>
                            </a:lnTo>
                            <a:lnTo>
                              <a:pt x="14" y="162"/>
                            </a:lnTo>
                            <a:lnTo>
                              <a:pt x="0" y="163"/>
                            </a:lnTo>
                            <a:close/>
                          </a:path>
                        </a:pathLst>
                      </a:custGeom>
                      <a:solidFill>
                        <a:srgbClr val="ffe5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6" name=""/>
                      <p:cNvSpPr/>
                      <p:nvPr/>
                    </p:nvSpPr>
                    <p:spPr>
                      <a:xfrm>
                        <a:off x="6204960" y="3103920"/>
                        <a:ext cx="78480" cy="13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148">
                            <a:moveTo>
                              <a:pt x="0" y="148"/>
                            </a:moveTo>
                            <a:lnTo>
                              <a:pt x="14" y="148"/>
                            </a:lnTo>
                            <a:lnTo>
                              <a:pt x="29" y="147"/>
                            </a:lnTo>
                            <a:lnTo>
                              <a:pt x="44" y="144"/>
                            </a:lnTo>
                            <a:lnTo>
                              <a:pt x="59" y="139"/>
                            </a:lnTo>
                            <a:lnTo>
                              <a:pt x="74" y="131"/>
                            </a:lnTo>
                            <a:lnTo>
                              <a:pt x="87" y="121"/>
                            </a:lnTo>
                            <a:lnTo>
                              <a:pt x="94" y="108"/>
                            </a:lnTo>
                            <a:lnTo>
                              <a:pt x="99" y="91"/>
                            </a:lnTo>
                            <a:lnTo>
                              <a:pt x="103" y="59"/>
                            </a:lnTo>
                            <a:lnTo>
                              <a:pt x="114" y="30"/>
                            </a:lnTo>
                            <a:lnTo>
                              <a:pt x="126" y="10"/>
                            </a:lnTo>
                            <a:lnTo>
                              <a:pt x="141" y="0"/>
                            </a:lnTo>
                            <a:lnTo>
                              <a:pt x="126" y="2"/>
                            </a:lnTo>
                            <a:lnTo>
                              <a:pt x="106" y="6"/>
                            </a:lnTo>
                            <a:lnTo>
                              <a:pt x="87" y="12"/>
                            </a:lnTo>
                            <a:lnTo>
                              <a:pt x="65" y="22"/>
                            </a:lnTo>
                            <a:lnTo>
                              <a:pt x="46" y="34"/>
                            </a:lnTo>
                            <a:lnTo>
                              <a:pt x="29" y="49"/>
                            </a:lnTo>
                            <a:lnTo>
                              <a:pt x="17" y="64"/>
                            </a:lnTo>
                            <a:lnTo>
                              <a:pt x="9" y="80"/>
                            </a:lnTo>
                            <a:lnTo>
                              <a:pt x="6" y="106"/>
                            </a:lnTo>
                            <a:lnTo>
                              <a:pt x="6" y="124"/>
                            </a:lnTo>
                            <a:lnTo>
                              <a:pt x="5" y="136"/>
                            </a:lnTo>
                            <a:lnTo>
                              <a:pt x="0" y="148"/>
                            </a:lnTo>
                            <a:close/>
                          </a:path>
                        </a:pathLst>
                      </a:custGeom>
                      <a:solidFill>
                        <a:srgbClr val="ffe5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7" name=""/>
                      <p:cNvSpPr/>
                      <p:nvPr/>
                    </p:nvSpPr>
                    <p:spPr>
                      <a:xfrm>
                        <a:off x="5809680" y="3079440"/>
                        <a:ext cx="4536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133">
                            <a:moveTo>
                              <a:pt x="82" y="133"/>
                            </a:moveTo>
                            <a:lnTo>
                              <a:pt x="70" y="129"/>
                            </a:lnTo>
                            <a:lnTo>
                              <a:pt x="58" y="125"/>
                            </a:lnTo>
                            <a:lnTo>
                              <a:pt x="46" y="120"/>
                            </a:lnTo>
                            <a:lnTo>
                              <a:pt x="35" y="112"/>
                            </a:lnTo>
                            <a:lnTo>
                              <a:pt x="25" y="97"/>
                            </a:lnTo>
                            <a:lnTo>
                              <a:pt x="14" y="75"/>
                            </a:lnTo>
                            <a:lnTo>
                              <a:pt x="6" y="44"/>
                            </a:lnTo>
                            <a:lnTo>
                              <a:pt x="0" y="0"/>
                            </a:lnTo>
                            <a:lnTo>
                              <a:pt x="17" y="10"/>
                            </a:lnTo>
                            <a:lnTo>
                              <a:pt x="32" y="19"/>
                            </a:lnTo>
                            <a:lnTo>
                              <a:pt x="44" y="29"/>
                            </a:lnTo>
                            <a:lnTo>
                              <a:pt x="55" y="40"/>
                            </a:lnTo>
                            <a:lnTo>
                              <a:pt x="64" y="55"/>
                            </a:lnTo>
                            <a:lnTo>
                              <a:pt x="72" y="75"/>
                            </a:lnTo>
                            <a:lnTo>
                              <a:pt x="78" y="99"/>
                            </a:lnTo>
                            <a:lnTo>
                              <a:pt x="82" y="133"/>
                            </a:lnTo>
                            <a:close/>
                          </a:path>
                        </a:pathLst>
                      </a:custGeom>
                      <a:solidFill>
                        <a:srgbClr val="ffe5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58" name=""/>
                  <p:cNvSpPr/>
                  <p:nvPr/>
                </p:nvSpPr>
                <p:spPr>
                  <a:xfrm>
                    <a:off x="5509080" y="3608280"/>
                    <a:ext cx="1332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200" spc="-1" strike="noStrike">
                        <a:solidFill>
                          <a:srgbClr val="000000"/>
                        </a:solidFill>
                        <a:latin typeface="Arial"/>
                      </a:rPr>
                      <a:t>Firewall-Rechne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9" name=""/>
                <p:cNvSpPr/>
                <p:nvPr/>
              </p:nvSpPr>
              <p:spPr>
                <a:xfrm>
                  <a:off x="5294880" y="3077280"/>
                  <a:ext cx="77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JDB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>
              <a:off x="826560" y="2060640"/>
              <a:ext cx="1480680" cy="45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equest via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der 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8760" y="3213000"/>
              <a:ext cx="1735200" cy="64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esponse zum Ser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a SOAP od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html, pdf, xls 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684360" y="5516640"/>
            <a:ext cx="792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 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XML-Architektur der Dioxin-Datenbank als Content Management Service (CM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urora BdCn BT"/>
              </a:rPr>
              <a:t>Prinzipschema für die Lösungsvariante  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urora BdCn BT"/>
              </a:rPr>
              <a:t>„XML-basiertes Webservice“</a:t>
            </a:r>
            <a:r>
              <a:rPr b="1" lang="en-US" sz="2000" spc="-1" strike="noStrike">
                <a:solidFill>
                  <a:srgbClr val="000000"/>
                </a:solidFill>
                <a:latin typeface="Aurora BdCn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33520" y="1052640"/>
            <a:ext cx="8076960" cy="4968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75280" y="3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58920" y="26028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ösungsprinzipien für 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XML-basiertes Webservice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47640" y="3500280"/>
            <a:ext cx="6248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4360" y="1052640"/>
            <a:ext cx="76327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Vor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Nutzung des W3C-Standards unter weitgehender Nutzung von Open-Source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Profilspezifische (nutzerbezogene) Recherchemöglichkeiten in der Dioxin-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Qualitätssicher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Import/Export Schnittstellen auf Basis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von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581360"/>
            <a:ext cx="7561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Erfüllung der Rahmenbedingungen von BundOnline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5411400">
            <a:off x="4322520" y="4470120"/>
            <a:ext cx="60948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00"/>
              </a:gs>
              <a:gs pos="100000">
                <a:srgbClr val="ffcc66"/>
              </a:gs>
            </a:gsLst>
            <a:lin ang="108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109520" y="228600"/>
            <a:ext cx="71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Ausbli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0720" y="800280"/>
            <a:ext cx="7772400" cy="5653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43000" y="100980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3906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Entwicklung des Web-Services DIOXIN-Datenbank in enger Abstimmung mit den Fachnutzern der Daten und Informationen (AG DIOXI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3906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Enge Kooperation mit Bund/Ländergremium  Umweltinformationssyst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3906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Kooperationsvertrag mit BUND/UBA und Bayern zur Entwicklung des Web-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3906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VM-UBA - iteratives Prototy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5411400">
            <a:off x="4465080" y="439884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00"/>
              </a:gs>
              <a:gs pos="100000">
                <a:srgbClr val="ffcc66"/>
              </a:gs>
            </a:gsLst>
            <a:lin ang="108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16000" y="5084640"/>
            <a:ext cx="756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Umsetzung der Aarhus-Konvention und des Umweltinformationsgesetz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Freier Zugang zu Umweltinfor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95360" y="533520"/>
            <a:ext cx="8153280" cy="548784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844640"/>
            <a:ext cx="7696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Verabschiedet auf der 17. ACK im April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Absatz 3: Datenaustausch, -zugriff und –ab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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ie Länder können auf alle von ihnen selbst übermittelten Daten und Informationen zugreif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UBA ermöglicht den Zugriff auf die bei ihm geführten Datenbestä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ie Übertragung und der Zugriff hat dv-technischen und fachlichen Sicherheitskriterien gerecht zu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280" y="762120"/>
            <a:ext cx="7543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nhang II. 3 der Verwaltungsvereinbarung zum Datenaustausch im Umweltbereich vom März 1996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60600" y="-108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Grundlagen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844640"/>
            <a:ext cx="720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914400"/>
            <a:ext cx="8153280" cy="502920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748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Umsetzu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34136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Rechtsgutachten zum Datenaustausch zwischen Bund und Länder – erarbeitet am Beispiel der Datenbank DIOXINE (UBA-Texte 15/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27082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ufbau der Datenbank DIOXINE in enger Abstimmung mit dem ehem. BgVV und der ressort-übergreifenden Bund-Länder AG DIOX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4437000"/>
            <a:ext cx="6858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ufnahme des Wirkbetriebes der zentralen Datenbank als Client-Server-Anwendung ab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990720"/>
            <a:ext cx="8153280" cy="495288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66960" y="228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Umsetzu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7010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ufbau eines Datenbestandes zu 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verschiedenen Umweltmedien einschließ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Lebens- und Futtermittel sowie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Humanberei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048120"/>
            <a:ext cx="6781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uswertung des Datenbestandes von über 100 Mess- und Beobachtungsprogrammen mit ca. 10 000 Pro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419720"/>
            <a:ext cx="6781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Erarbeitung des 3. und 4. Berichtes der B/L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G DIOXINE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 und der Unterarbeitsgruppe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IOXINREFERENZMESSPROGRAMM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Veröffentlichung Frühjah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urora BdCn BT"/>
              </a:rPr>
              <a:t>Übersicht zum Datenbestand</a:t>
            </a:r>
            <a:endParaRPr b="1" lang="en-US" sz="3600" spc="-1" strike="noStrike">
              <a:solidFill>
                <a:srgbClr val="000000"/>
              </a:solidFill>
              <a:latin typeface="Aurora BdCn BT"/>
            </a:endParaRPr>
          </a:p>
        </p:txBody>
      </p:sp>
      <p:pic>
        <p:nvPicPr>
          <p:cNvPr id="112" name="" descr="Anzahl der Proben nach Kompartiment &#10;Stand 12. September 2002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9640" y="1341360"/>
            <a:ext cx="2519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981000"/>
            <a:ext cx="8153640" cy="504036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2860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V-Struktur der Datenba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197000"/>
            <a:ext cx="73152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IOXIN-Datenbank V 5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atenserver Betriebssystem UNIX mit dem    Datenbanksystem Oracle Version 8.1.6.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Client-Anwendung WINDOWS NT unter Einsatz der Software ACCESS 9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Client-Serververbindung mit ODBC-Treiber von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4581360"/>
            <a:ext cx="7010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ISDN-Leitung zwischen BgVV und UBA zur Dateneingabe und Recherche Humanbereich, Lebens- und Futtermittel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907920"/>
            <a:ext cx="8153640" cy="504036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2286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Struktur der Datenbank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1052640"/>
            <a:ext cx="73152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ateneingabe: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kompartimentbezogene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Metadatenbeschreibung zum Anlaß des Messprogramms, zur 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Probenahme, Analytik und Standortbeschrei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3357720"/>
            <a:ext cx="70106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71 Einzelkongenere zu Dioxinen, Furanen und PCB sowie weiteren chlororganischen Einze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Stammdatenverwaltung für Faktoren zur Berechnung von Toxizitätsäquivalenten und Wertebereichen (Q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1052640"/>
            <a:ext cx="8153280" cy="466560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286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Struktur der Datenbank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31520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ateneingabe: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Generieren eines Vor-Ort-Erfassungsmoduls  (Erfassungsmasken in AC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Import der Daten über das Erfassungs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Import von Lebensmitteldaten über individuelle Schnittstellen (Excel, ASCII, Textform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4T11:10:16Z</dcterms:created>
  <dc:creator>brinkman</dc:creator>
  <dc:description/>
  <dc:language>en-US</dc:language>
  <cp:lastModifiedBy>Knetsch</cp:lastModifiedBy>
  <cp:lastPrinted>2001-05-16T12:50:20Z</cp:lastPrinted>
  <dcterms:modified xsi:type="dcterms:W3CDTF">2003-06-10T13:39:04Z</dcterms:modified>
  <cp:revision>355</cp:revision>
  <dc:subject/>
  <dc:title>Kein Folientitel</dc:title>
</cp:coreProperties>
</file>